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9120" y="1233360"/>
            <a:ext cx="443844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682A-5E51-4078-A9C1-C1C28B778E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8440" cy="3329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BCEF-4A15-4296-A30B-028497C639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8440" cy="3329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7C3F-0B32-414A-A868-CD7BFFF5A2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8440" cy="3329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0EC6-9E90-4C6F-9800-1EF778B189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8440" cy="3329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C510-ACA1-47D2-8CA7-671290F5CF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8440" cy="3329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F813-D00F-4A40-82E8-FA265E7E00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5E8-D75D-4045-BAFC-EB271890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A27-5E5B-4EB2-B6A2-9CE7E3A4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EFC-8569-4D76-AA58-9248C284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502-7694-444A-B03B-2E760BF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CBED-E4CC-4EF4-987F-0FB26CDC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42CE-A5FC-4FDA-A405-8D9F1D58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611-2664-46B1-A7BE-51B9D23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6D8A-BD07-4A77-9EF5-E91C7CBB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CB9D-D36E-4A26-8E92-D99ADCFC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347C-5E83-47A4-989B-2354E639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BCC-AD62-4058-9778-67087FA5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742-BCC4-4B75-A535-BA34753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076-FA83-4CD5-BF78-EAFAF2A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937D-DBB9-4608-9E57-614B9CD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EB9C-8767-44F8-9E89-5981C11C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65B3-A45C-4F94-8F16-86C217D7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DED-95B5-4B9B-9768-B68AEAE0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BAF6-D57F-4E10-A806-31AA1A61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4EBA-05B4-4122-BC2D-0EE9DE8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60FB-9541-4F38-89CD-E16C1692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239C-4E32-4908-93A8-BFF35D81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B02F-706A-4F00-AB02-8685E038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399-19FB-4B45-BBB2-523BBC6C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2C6C-A85B-4899-BDCF-6ABAEC6F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1618-BEA3-491F-B89E-0194927F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DEFA-F078-45D8-8E8E-B06618B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FE0B-4B89-42B1-B65A-09550E6F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D28E-10B1-44AF-8A75-D277B559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ADC7-4CDA-4F3C-911D-7157820B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D82F-E7EF-423E-B1F2-F98A4C4B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5BDF-B163-4946-88FB-1DBA53B1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83E1-2311-4A60-BA47-23DDE6D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C8E4-C59D-42CE-9C0E-74D1C2AD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29B-593F-4398-9AB5-E58C97CE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B260-7569-4762-A192-C8D7D0A1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160F-1CEF-4185-B41C-363255D0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D1B5-9A99-4351-8AB9-0430E1D8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9AFA-89BF-41B6-B7A6-564B598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7949-D210-4EFB-8021-BA40D5B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60F7-A91E-4927-90BC-61E14A52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1762-1082-4909-9A03-C2C52A0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A6FC-19CC-488C-845F-53E8F9B9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D4AD-12BA-4C5B-BD71-441AEF32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D8F-CD60-4736-885C-25738DF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4D8-3ECF-4520-9858-627AB5C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DBD-3949-4907-8960-EEC42A3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445-CE0F-4FE4-9474-7FC9F1A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029-4F46-4FF9-8B4D-769335F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E879-E50B-4010-A1D2-86A2CD9EFA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BDE3-D905-4736-86C4-2EEDE1C367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8590-9214-49E1-96E3-3E414A3C19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C9C4-522B-4595-A465-FBE28D3E03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角三角形 132"/>
          <p:cNvSpPr/>
          <p:nvPr/>
        </p:nvSpPr>
        <p:spPr>
          <a:xfrm flipV="1" rot="10800000">
            <a:off x="914400" y="4645440"/>
            <a:ext cx="8229600" cy="2211480"/>
          </a:xfrm>
          <a:prstGeom prst="rtTriangle">
            <a:avLst/>
          </a:prstGeom>
          <a:solidFill>
            <a:srgbClr val="005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角三角形 131"/>
          <p:cNvSpPr/>
          <p:nvPr/>
        </p:nvSpPr>
        <p:spPr>
          <a:xfrm rot="5400000">
            <a:off x="1856880" y="-1857240"/>
            <a:ext cx="1409760" cy="5124600"/>
          </a:xfrm>
          <a:prstGeom prst="rtTriangle">
            <a:avLst/>
          </a:prstGeom>
          <a:solidFill>
            <a:srgbClr val="005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133"/>
          <p:cNvSpPr/>
          <p:nvPr/>
        </p:nvSpPr>
        <p:spPr>
          <a:xfrm>
            <a:off x="1774800" y="2252520"/>
            <a:ext cx="59785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3a3"/>
                </a:solidFill>
                <a:latin typeface="Arial"/>
                <a:ea typeface="微软雅黑"/>
              </a:rPr>
              <a:t>教育系统内部控制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3a3"/>
                </a:solidFill>
                <a:latin typeface="Arial"/>
                <a:ea typeface="微软雅黑"/>
              </a:rPr>
              <a:t>执行手段与措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39"/>
          <p:cNvGrpSpPr/>
          <p:nvPr/>
        </p:nvGrpSpPr>
        <p:grpSpPr>
          <a:xfrm>
            <a:off x="368280" y="220680"/>
            <a:ext cx="666720" cy="624960"/>
            <a:chOff x="368280" y="220680"/>
            <a:chExt cx="666720" cy="624960"/>
          </a:xfrm>
        </p:grpSpPr>
        <p:sp>
          <p:nvSpPr>
            <p:cNvPr id="179" name="Freeform 40"/>
            <p:cNvSpPr/>
            <p:nvPr/>
          </p:nvSpPr>
          <p:spPr>
            <a:xfrm>
              <a:off x="368280" y="264600"/>
              <a:ext cx="666720" cy="4471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20" h="80">
                  <a:moveTo>
                    <a:pt x="8" y="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71"/>
                    <a:pt x="49" y="80"/>
                    <a:pt x="60" y="80"/>
                  </a:cubicBezTo>
                  <a:cubicBezTo>
                    <a:pt x="71" y="80"/>
                    <a:pt x="80" y="71"/>
                    <a:pt x="80" y="60"/>
                  </a:cubicBezTo>
                  <a:cubicBezTo>
                    <a:pt x="120" y="60"/>
                    <a:pt x="120" y="60"/>
                    <a:pt x="120" y="60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>
              <a:off x="368280" y="667080"/>
              <a:ext cx="666720" cy="1785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78560"/>
                <a:gd name="textAreaBottom" fmla="*/ 178560 h 178560"/>
              </a:gdLst>
              <a:ahLst/>
              <a:rect l="textAreaLeft" t="textAreaTop" r="textAreaRight" b="textAreaBottom"/>
              <a:pathLst>
                <a:path w="1268" h="339">
                  <a:moveTo>
                    <a:pt x="0" y="0"/>
                  </a:moveTo>
                  <a:lnTo>
                    <a:pt x="0" y="339"/>
                  </a:lnTo>
                  <a:lnTo>
                    <a:pt x="1268" y="339"/>
                  </a:lnTo>
                  <a:lnTo>
                    <a:pt x="1268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>
              <a:off x="501840" y="220680"/>
              <a:ext cx="399600" cy="31248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60" h="593">
                  <a:moveTo>
                    <a:pt x="760" y="593"/>
                  </a:moveTo>
                  <a:lnTo>
                    <a:pt x="760" y="0"/>
                  </a:lnTo>
                  <a:lnTo>
                    <a:pt x="0" y="0"/>
                  </a:lnTo>
                  <a:lnTo>
                    <a:pt x="0" y="59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43"/>
            <p:cNvSpPr/>
            <p:nvPr/>
          </p:nvSpPr>
          <p:spPr>
            <a:xfrm>
              <a:off x="568080" y="309600"/>
              <a:ext cx="11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44"/>
            <p:cNvSpPr/>
            <p:nvPr/>
          </p:nvSpPr>
          <p:spPr>
            <a:xfrm>
              <a:off x="568080" y="398880"/>
              <a:ext cx="26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568080" y="488520"/>
              <a:ext cx="26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286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文本框 17"/>
          <p:cNvSpPr/>
          <p:nvPr/>
        </p:nvSpPr>
        <p:spPr>
          <a:xfrm>
            <a:off x="1019160" y="53352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内部控制是…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目标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WordArt 6"/>
          <p:cNvSpPr txBox="1"/>
          <p:nvPr/>
        </p:nvSpPr>
        <p:spPr>
          <a:xfrm>
            <a:off x="684360" y="2421000"/>
            <a:ext cx="1112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内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90" name="组合 28677"/>
          <p:cNvGrpSpPr/>
          <p:nvPr/>
        </p:nvGrpSpPr>
        <p:grpSpPr>
          <a:xfrm>
            <a:off x="2124000" y="2205000"/>
            <a:ext cx="647280" cy="790560"/>
            <a:chOff x="2124000" y="2205000"/>
            <a:chExt cx="647280" cy="790560"/>
          </a:xfrm>
        </p:grpSpPr>
        <p:grpSp>
          <p:nvGrpSpPr>
            <p:cNvPr id="291" name="组合 28678"/>
            <p:cNvGrpSpPr/>
            <p:nvPr/>
          </p:nvGrpSpPr>
          <p:grpSpPr>
            <a:xfrm>
              <a:off x="2124000" y="2492280"/>
              <a:ext cx="647280" cy="216000"/>
              <a:chOff x="2124000" y="2492280"/>
              <a:chExt cx="647280" cy="216000"/>
            </a:xfrm>
          </p:grpSpPr>
          <p:sp>
            <p:nvSpPr>
              <p:cNvPr id="292" name="Line 9"/>
              <p:cNvSpPr/>
              <p:nvPr/>
            </p:nvSpPr>
            <p:spPr>
              <a:xfrm>
                <a:off x="2124000" y="2492280"/>
                <a:ext cx="647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10"/>
              <p:cNvSpPr/>
              <p:nvPr/>
            </p:nvSpPr>
            <p:spPr>
              <a:xfrm>
                <a:off x="2124000" y="2708280"/>
                <a:ext cx="647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4" name="Line 11"/>
            <p:cNvSpPr/>
            <p:nvPr/>
          </p:nvSpPr>
          <p:spPr>
            <a:xfrm flipH="1">
              <a:off x="2268000" y="2205000"/>
              <a:ext cx="358920" cy="7905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WordArt 12"/>
          <p:cNvSpPr txBox="1"/>
          <p:nvPr/>
        </p:nvSpPr>
        <p:spPr>
          <a:xfrm>
            <a:off x="684360" y="4076640"/>
            <a:ext cx="1112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内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96" name="组合 28683"/>
          <p:cNvGrpSpPr/>
          <p:nvPr/>
        </p:nvGrpSpPr>
        <p:grpSpPr>
          <a:xfrm>
            <a:off x="2195640" y="4149720"/>
            <a:ext cx="504360" cy="216000"/>
            <a:chOff x="2195640" y="4149720"/>
            <a:chExt cx="504360" cy="216000"/>
          </a:xfrm>
        </p:grpSpPr>
        <p:sp>
          <p:nvSpPr>
            <p:cNvPr id="297" name="Line 14"/>
            <p:cNvSpPr/>
            <p:nvPr/>
          </p:nvSpPr>
          <p:spPr>
            <a:xfrm>
              <a:off x="2195640" y="4149720"/>
              <a:ext cx="504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15"/>
            <p:cNvSpPr/>
            <p:nvPr/>
          </p:nvSpPr>
          <p:spPr>
            <a:xfrm>
              <a:off x="2195640" y="4365720"/>
              <a:ext cx="504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28686"/>
          <p:cNvGrpSpPr/>
          <p:nvPr/>
        </p:nvGrpSpPr>
        <p:grpSpPr>
          <a:xfrm>
            <a:off x="3059280" y="3716280"/>
            <a:ext cx="1944360" cy="1079640"/>
            <a:chOff x="3059280" y="3716280"/>
            <a:chExt cx="1944360" cy="1079640"/>
          </a:xfrm>
        </p:grpSpPr>
        <p:sp>
          <p:nvSpPr>
            <p:cNvPr id="300" name="Oval 17"/>
            <p:cNvSpPr/>
            <p:nvPr/>
          </p:nvSpPr>
          <p:spPr>
            <a:xfrm>
              <a:off x="3059280" y="3716280"/>
              <a:ext cx="1944360" cy="107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WordArt 18"/>
            <p:cNvSpPr txBox="1"/>
            <p:nvPr/>
          </p:nvSpPr>
          <p:spPr>
            <a:xfrm>
              <a:off x="3563640" y="4003560"/>
              <a:ext cx="914040" cy="45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00cc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78000"/>
                      </a:srgbClr>
                    </a:outerShdw>
                  </a:effectLst>
                  <a:latin typeface="宋体"/>
                </a:rPr>
                <a:t>过程</a:t>
              </a:r>
              <a:endParaRPr b="0" i="1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02" name="AutoShape 19"/>
          <p:cNvSpPr/>
          <p:nvPr/>
        </p:nvSpPr>
        <p:spPr>
          <a:xfrm>
            <a:off x="5219640" y="4076640"/>
            <a:ext cx="647640" cy="289080"/>
          </a:xfrm>
          <a:custGeom>
            <a:avLst/>
            <a:gdLst>
              <a:gd name="textAreaLeft" fmla="*/ 81000 w 647640"/>
              <a:gd name="textAreaRight" fmla="*/ 567000 w 647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6227640" y="3284640"/>
            <a:ext cx="2665440" cy="1800000"/>
          </a:xfrm>
          <a:prstGeom prst="foldedCorner">
            <a:avLst>
              <a:gd name="adj" fmla="val 12500"/>
            </a:avLst>
          </a:prstGeom>
          <a:solidFill>
            <a:srgbClr val="fff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由单位负责人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各阶层人员一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推动和执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组合 28691"/>
          <p:cNvGrpSpPr/>
          <p:nvPr/>
        </p:nvGrpSpPr>
        <p:grpSpPr>
          <a:xfrm>
            <a:off x="3132000" y="2205000"/>
            <a:ext cx="2448000" cy="1079280"/>
            <a:chOff x="3132000" y="2205000"/>
            <a:chExt cx="2448000" cy="1079280"/>
          </a:xfrm>
        </p:grpSpPr>
        <p:sp>
          <p:nvSpPr>
            <p:cNvPr id="305" name="Oval 22"/>
            <p:cNvSpPr/>
            <p:nvPr/>
          </p:nvSpPr>
          <p:spPr>
            <a:xfrm>
              <a:off x="3132000" y="2205000"/>
              <a:ext cx="2448000" cy="96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WordArt 23"/>
            <p:cNvSpPr txBox="1"/>
            <p:nvPr/>
          </p:nvSpPr>
          <p:spPr>
            <a:xfrm>
              <a:off x="3529800" y="2476080"/>
              <a:ext cx="854640" cy="43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78000"/>
                      </a:srgbClr>
                    </a:outerShdw>
                  </a:effectLst>
                  <a:latin typeface="宋体"/>
                </a:rPr>
                <a:t>目标</a:t>
              </a:r>
              <a:endPara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307" name="Picture 24" descr="j0293844"/>
            <p:cNvPicPr/>
            <p:nvPr/>
          </p:nvPicPr>
          <p:blipFill>
            <a:blip r:embed="rId1"/>
            <a:stretch/>
          </p:blipFill>
          <p:spPr>
            <a:xfrm>
              <a:off x="4732200" y="2546640"/>
              <a:ext cx="711720" cy="73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AutoShape 25"/>
          <p:cNvSpPr/>
          <p:nvPr/>
        </p:nvSpPr>
        <p:spPr>
          <a:xfrm flipH="1">
            <a:off x="5723640" y="2637000"/>
            <a:ext cx="1008360" cy="502920"/>
          </a:xfrm>
          <a:custGeom>
            <a:avLst/>
            <a:gdLst>
              <a:gd name="textAreaLeft" fmla="*/ 579960 w 1008360"/>
              <a:gd name="textAreaRight" fmla="*/ 850680 w 1008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10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7"/>
          <p:cNvSpPr/>
          <p:nvPr/>
        </p:nvSpPr>
        <p:spPr>
          <a:xfrm>
            <a:off x="1019160" y="53352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内部控制是…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审计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组合 29700"/>
          <p:cNvGrpSpPr/>
          <p:nvPr/>
        </p:nvGrpSpPr>
        <p:grpSpPr>
          <a:xfrm>
            <a:off x="2771640" y="2924280"/>
            <a:ext cx="2087640" cy="1584000"/>
            <a:chOff x="2771640" y="2924280"/>
            <a:chExt cx="2087640" cy="1584000"/>
          </a:xfrm>
        </p:grpSpPr>
        <p:sp>
          <p:nvSpPr>
            <p:cNvPr id="314" name="Oval 7"/>
            <p:cNvSpPr/>
            <p:nvPr/>
          </p:nvSpPr>
          <p:spPr>
            <a:xfrm>
              <a:off x="2771640" y="2924280"/>
              <a:ext cx="2087640" cy="158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WordArt 8"/>
            <p:cNvSpPr txBox="1"/>
            <p:nvPr/>
          </p:nvSpPr>
          <p:spPr>
            <a:xfrm>
              <a:off x="3274920" y="3737160"/>
              <a:ext cx="1297080" cy="55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99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53966" dir="2700000" blurRad="0" rotWithShape="0">
                      <a:srgbClr val="9999ff">
                        <a:alpha val="78000"/>
                      </a:srgbClr>
                    </a:outerShdw>
                  </a:effectLst>
                  <a:latin typeface="宋体"/>
                </a:rPr>
                <a:t>内控工具</a:t>
              </a:r>
              <a:endPara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316" name="Picture 9" descr="j0252349"/>
            <p:cNvPicPr/>
            <p:nvPr/>
          </p:nvPicPr>
          <p:blipFill>
            <a:blip r:embed="rId1"/>
            <a:stretch/>
          </p:blipFill>
          <p:spPr>
            <a:xfrm>
              <a:off x="3274920" y="3103560"/>
              <a:ext cx="1116000" cy="50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WordArt 10"/>
          <p:cNvSpPr txBox="1"/>
          <p:nvPr/>
        </p:nvSpPr>
        <p:spPr>
          <a:xfrm>
            <a:off x="611280" y="3500280"/>
            <a:ext cx="1112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审计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18" name="组合 29705"/>
          <p:cNvGrpSpPr/>
          <p:nvPr/>
        </p:nvGrpSpPr>
        <p:grpSpPr>
          <a:xfrm>
            <a:off x="2050920" y="3573360"/>
            <a:ext cx="417600" cy="177840"/>
            <a:chOff x="2050920" y="3573360"/>
            <a:chExt cx="417600" cy="177840"/>
          </a:xfrm>
        </p:grpSpPr>
        <p:sp>
          <p:nvSpPr>
            <p:cNvPr id="319" name="Line 12"/>
            <p:cNvSpPr/>
            <p:nvPr/>
          </p:nvSpPr>
          <p:spPr>
            <a:xfrm>
              <a:off x="2050920" y="3573360"/>
              <a:ext cx="4176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13"/>
            <p:cNvSpPr/>
            <p:nvPr/>
          </p:nvSpPr>
          <p:spPr>
            <a:xfrm>
              <a:off x="2050920" y="3751200"/>
              <a:ext cx="4176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AutoShape 14"/>
          <p:cNvSpPr/>
          <p:nvPr/>
        </p:nvSpPr>
        <p:spPr>
          <a:xfrm>
            <a:off x="6012000" y="2133720"/>
            <a:ext cx="2790720" cy="13683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为管理层提供监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5"/>
          <p:cNvSpPr/>
          <p:nvPr/>
        </p:nvSpPr>
        <p:spPr>
          <a:xfrm rot="1398000">
            <a:off x="5003280" y="4076640"/>
            <a:ext cx="792360" cy="142920"/>
          </a:xfrm>
          <a:prstGeom prst="rightArrow">
            <a:avLst>
              <a:gd name="adj1" fmla="val 50000"/>
              <a:gd name="adj2" fmla="val 138602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6"/>
          <p:cNvSpPr/>
          <p:nvPr/>
        </p:nvSpPr>
        <p:spPr>
          <a:xfrm>
            <a:off x="6012000" y="4076640"/>
            <a:ext cx="2790720" cy="13683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业务部门适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的内控建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7"/>
          <p:cNvSpPr/>
          <p:nvPr/>
        </p:nvSpPr>
        <p:spPr>
          <a:xfrm rot="20195400">
            <a:off x="5003640" y="3357360"/>
            <a:ext cx="792360" cy="142560"/>
          </a:xfrm>
          <a:prstGeom prst="rightArrow">
            <a:avLst>
              <a:gd name="adj1" fmla="val 50000"/>
              <a:gd name="adj2" fmla="val 138952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26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文本框 17"/>
          <p:cNvSpPr/>
          <p:nvPr/>
        </p:nvSpPr>
        <p:spPr>
          <a:xfrm>
            <a:off x="1419120" y="36180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二）内部控制的演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"/>
          <p:cNvSpPr/>
          <p:nvPr/>
        </p:nvSpPr>
        <p:spPr>
          <a:xfrm>
            <a:off x="746280" y="1338120"/>
            <a:ext cx="81295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萌芽阶段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以前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部牵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职务分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账目核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交叉检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例：双人记账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宋规定“官职分离、职差分离”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主库吏三年一易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4" descr="QQ截图20121030222947"/>
          <p:cNvPicPr/>
          <p:nvPr/>
        </p:nvPicPr>
        <p:blipFill>
          <a:blip r:embed="rId1"/>
          <a:stretch/>
        </p:blipFill>
        <p:spPr>
          <a:xfrm>
            <a:off x="5651640" y="2190600"/>
            <a:ext cx="3351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32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" name="文本框 1"/>
          <p:cNvSpPr/>
          <p:nvPr/>
        </p:nvSpPr>
        <p:spPr>
          <a:xfrm>
            <a:off x="746280" y="892080"/>
            <a:ext cx="812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阶段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-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部会计控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由组织计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保护资产和保证财务资料可靠性的程序和记录构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部管理控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会计控制，还包括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法律的遵循、管理政策的坚持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业务运作的效率等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组织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业务授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资产保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信息公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36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" name="文本框 1"/>
          <p:cNvSpPr/>
          <p:nvPr/>
        </p:nvSpPr>
        <p:spPr>
          <a:xfrm>
            <a:off x="746280" y="792000"/>
            <a:ext cx="8129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熟阶段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以后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部控制结构和内部控制整体架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图片 1880065" descr=""/>
          <p:cNvPicPr/>
          <p:nvPr/>
        </p:nvPicPr>
        <p:blipFill>
          <a:blip r:embed="rId1"/>
          <a:stretch/>
        </p:blipFill>
        <p:spPr>
          <a:xfrm>
            <a:off x="395280" y="2338560"/>
            <a:ext cx="73501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41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文本框 17"/>
          <p:cNvSpPr/>
          <p:nvPr/>
        </p:nvSpPr>
        <p:spPr>
          <a:xfrm>
            <a:off x="1419120" y="36180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三）内部控制的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1"/>
          <p:cNvSpPr/>
          <p:nvPr/>
        </p:nvSpPr>
        <p:spPr>
          <a:xfrm>
            <a:off x="446040" y="1378080"/>
            <a:ext cx="8061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基本目标：保证单位经济活动合法合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重要目标：保证资产安全和使用有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保证财务信息真实完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有效防范舞弊和预防腐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最高目标：提高公共服务的效率和效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4"/>
          <p:cNvSpPr/>
          <p:nvPr/>
        </p:nvSpPr>
        <p:spPr>
          <a:xfrm>
            <a:off x="249120" y="1897200"/>
            <a:ext cx="39322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70c0"/>
                </a:solidFill>
                <a:latin typeface="微软雅黑"/>
                <a:ea typeface="微软雅黑"/>
              </a:rPr>
              <a:t>0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4308480" y="2689200"/>
            <a:ext cx="447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62626"/>
                </a:solidFill>
                <a:latin typeface="Calibri"/>
              </a:rPr>
              <a:t>教育系统内部控制现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28560" y="653760"/>
            <a:ext cx="788688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充分认识内部控制的重要意义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面推进依法治国的重要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提升单位管理水平的有效举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促进党风廉政建设的重要手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28560" y="353520"/>
            <a:ext cx="788688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财政部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月，财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号发布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行政事业单位内部控制规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日起执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教育部：教财函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号，关于做好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行政事业单位内部控制规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实施工作的通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财政部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月，财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号“关于全面推进行政事业单位内部控制建设的指导意见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财政厅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月，粤财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号 “关于进一步推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行政事业单位内部控制规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实施工作的意见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28560" y="611280"/>
            <a:ext cx="788688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年底前完成内部控制的建立和实施工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年，基本建成与国家治理体系治理能力现代化相适应，权责一致、制衡有效、运行通畅、执行有力、管理科学的内部控制体系，更好地发挥内部控制在提升内部治理水平、规范内部权力运行、促进依法行政、推进廉政建设中的重要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186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文本框 17"/>
          <p:cNvSpPr/>
          <p:nvPr/>
        </p:nvSpPr>
        <p:spPr>
          <a:xfrm>
            <a:off x="1419120" y="36180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生活中常见的内控现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1"/>
          <p:cNvSpPr/>
          <p:nvPr/>
        </p:nvSpPr>
        <p:spPr>
          <a:xfrm>
            <a:off x="571680" y="129852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财经重地，非请莫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库房重地，闲人免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请你签字（或留下指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请输入你的密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支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人为私，二人为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右大括号 2"/>
          <p:cNvSpPr/>
          <p:nvPr/>
        </p:nvSpPr>
        <p:spPr>
          <a:xfrm>
            <a:off x="4879800" y="1849320"/>
            <a:ext cx="588960" cy="804960"/>
          </a:xfrm>
          <a:custGeom>
            <a:avLst/>
            <a:gdLst>
              <a:gd name="textAreaLeft" fmla="*/ 0 w 588960"/>
              <a:gd name="textAreaRight" fmla="*/ 212760 w 588960"/>
              <a:gd name="textAreaTop" fmla="*/ 15120 h 804960"/>
              <a:gd name="textAreaBottom" fmla="*/ 78984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9"/>
                  <a:pt x="10800" y="1317"/>
                </a:cubicBezTo>
                <a:lnTo>
                  <a:pt x="10800" y="9483"/>
                </a:lnTo>
                <a:cubicBezTo>
                  <a:pt x="10800" y="10142"/>
                  <a:pt x="16200" y="10800"/>
                  <a:pt x="21600" y="10800"/>
                </a:cubicBezTo>
                <a:cubicBezTo>
                  <a:pt x="16200" y="10800"/>
                  <a:pt x="10800" y="11459"/>
                  <a:pt x="10800" y="12117"/>
                </a:cubicBezTo>
                <a:lnTo>
                  <a:pt x="10800" y="20283"/>
                </a:lnTo>
                <a:cubicBezTo>
                  <a:pt x="10800" y="2094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右大括号 3"/>
          <p:cNvSpPr/>
          <p:nvPr/>
        </p:nvSpPr>
        <p:spPr>
          <a:xfrm>
            <a:off x="4924440" y="3368520"/>
            <a:ext cx="587520" cy="804960"/>
          </a:xfrm>
          <a:custGeom>
            <a:avLst/>
            <a:gdLst>
              <a:gd name="textAreaLeft" fmla="*/ 0 w 587520"/>
              <a:gd name="textAreaRight" fmla="*/ 212040 w 587520"/>
              <a:gd name="textAreaTop" fmla="*/ 15120 h 804960"/>
              <a:gd name="textAreaBottom" fmla="*/ 78984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9"/>
                  <a:pt x="10800" y="1317"/>
                </a:cubicBezTo>
                <a:lnTo>
                  <a:pt x="10800" y="9483"/>
                </a:lnTo>
                <a:cubicBezTo>
                  <a:pt x="10800" y="10142"/>
                  <a:pt x="16200" y="10800"/>
                  <a:pt x="21600" y="10800"/>
                </a:cubicBezTo>
                <a:cubicBezTo>
                  <a:pt x="16200" y="10800"/>
                  <a:pt x="10800" y="11459"/>
                  <a:pt x="10800" y="12117"/>
                </a:cubicBezTo>
                <a:lnTo>
                  <a:pt x="10800" y="20283"/>
                </a:lnTo>
                <a:cubicBezTo>
                  <a:pt x="10800" y="2094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右大括号 4"/>
          <p:cNvSpPr/>
          <p:nvPr/>
        </p:nvSpPr>
        <p:spPr>
          <a:xfrm>
            <a:off x="4916520" y="4781520"/>
            <a:ext cx="588960" cy="804960"/>
          </a:xfrm>
          <a:custGeom>
            <a:avLst/>
            <a:gdLst>
              <a:gd name="textAreaLeft" fmla="*/ 0 w 588960"/>
              <a:gd name="textAreaRight" fmla="*/ 212760 w 588960"/>
              <a:gd name="textAreaTop" fmla="*/ 15120 h 804960"/>
              <a:gd name="textAreaBottom" fmla="*/ 78984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9"/>
                  <a:pt x="10800" y="1317"/>
                </a:cubicBezTo>
                <a:lnTo>
                  <a:pt x="10800" y="9483"/>
                </a:lnTo>
                <a:cubicBezTo>
                  <a:pt x="10800" y="10142"/>
                  <a:pt x="16200" y="10800"/>
                  <a:pt x="21600" y="10800"/>
                </a:cubicBezTo>
                <a:cubicBezTo>
                  <a:pt x="16200" y="10800"/>
                  <a:pt x="10800" y="11459"/>
                  <a:pt x="10800" y="12117"/>
                </a:cubicBezTo>
                <a:lnTo>
                  <a:pt x="10800" y="20283"/>
                </a:lnTo>
                <a:cubicBezTo>
                  <a:pt x="10800" y="2094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5"/>
          <p:cNvSpPr/>
          <p:nvPr/>
        </p:nvSpPr>
        <p:spPr>
          <a:xfrm>
            <a:off x="5686560" y="206532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令人不爽的公示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6"/>
          <p:cNvSpPr/>
          <p:nvPr/>
        </p:nvSpPr>
        <p:spPr>
          <a:xfrm>
            <a:off x="5657760" y="35244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令人烦恼的手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7"/>
          <p:cNvSpPr/>
          <p:nvPr/>
        </p:nvSpPr>
        <p:spPr>
          <a:xfrm>
            <a:off x="5645160" y="493092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令人熟悉的说法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做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28560" y="51120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主要任务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是健全内部控制体系，强化内部流程控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是加强内部权力制衡，规范内部权力运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是建立内部控制制度，促进内控信息公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是加强监督检查工作，加大考评问责力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28560" y="525600"/>
            <a:ext cx="817272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工作要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是加强组织领导：建立一把手负责制、健全实施机构、积极协调配合、适当借助外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是做好宣传培训：大力开展宣传、加强专业培训、坚持实事求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是强化业务督导：建立责任机制、强化专业指导、加强督导检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53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1"/>
          <p:cNvSpPr/>
          <p:nvPr/>
        </p:nvSpPr>
        <p:spPr>
          <a:xfrm>
            <a:off x="446040" y="763560"/>
            <a:ext cx="8228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一）内控环境不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262626"/>
                </a:solidFill>
                <a:latin typeface="Calibri"/>
              </a:rPr>
              <a:t>法人治理结构不健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决策机构与执行机构合一，呈现行政权力为主、部门高度集权的特点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教职工代表大会并不能发挥教职员工参与学校管理、考评管理层的职能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57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文本框 1"/>
          <p:cNvSpPr/>
          <p:nvPr/>
        </p:nvSpPr>
        <p:spPr>
          <a:xfrm>
            <a:off x="446040" y="806400"/>
            <a:ext cx="8228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组织结构不尽完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组织结构权力运行自上而下，下级对上级缺乏有效的监督和制约，容易导致以权谋私、徇私舞弊的现象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部审计部门地位偏低，独立性不强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61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文本框 17"/>
          <p:cNvSpPr/>
          <p:nvPr/>
        </p:nvSpPr>
        <p:spPr>
          <a:xfrm>
            <a:off x="861840" y="361800"/>
            <a:ext cx="767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二）缺乏科学有效的风险评估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1"/>
          <p:cNvSpPr/>
          <p:nvPr/>
        </p:nvSpPr>
        <p:spPr>
          <a:xfrm>
            <a:off x="446040" y="2335320"/>
            <a:ext cx="8228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262626"/>
                </a:solidFill>
                <a:latin typeface="Calibri"/>
              </a:rPr>
              <a:t>风险防范意识淡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融资风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内部管理风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经营风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66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文本框 17"/>
          <p:cNvSpPr/>
          <p:nvPr/>
        </p:nvSpPr>
        <p:spPr>
          <a:xfrm>
            <a:off x="1419120" y="36180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风险评估机制不健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1"/>
          <p:cNvSpPr/>
          <p:nvPr/>
        </p:nvSpPr>
        <p:spPr>
          <a:xfrm>
            <a:off x="446040" y="1420920"/>
            <a:ext cx="8228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风险评估的目的是找出风险所在，进而采取有效措施应对风险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当前防范风险单纯依靠财会人员或决策者的经验判断，而不是依靠必要的标准、程序、手续和方法技术等制度约束，既不可靠，也加大了管理者的压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71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17"/>
          <p:cNvSpPr/>
          <p:nvPr/>
        </p:nvSpPr>
        <p:spPr>
          <a:xfrm>
            <a:off x="1419120" y="36180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控制风险措施不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给力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1"/>
          <p:cNvSpPr/>
          <p:nvPr/>
        </p:nvSpPr>
        <p:spPr>
          <a:xfrm>
            <a:off x="446040" y="1235160"/>
            <a:ext cx="8228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于投资风险及融资风险的认识不足。在投资方面，盲目进行基建项目的实施，未对重大项目进行有效论证、审批；在融资方面，未充分认识到自身所能承受的经济能力，导致筹资规模、方式以及结构不合理，使得资金周转存在困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76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文本框 17"/>
          <p:cNvSpPr/>
          <p:nvPr/>
        </p:nvSpPr>
        <p:spPr>
          <a:xfrm>
            <a:off x="1419120" y="3618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三）控制活动存在缺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"/>
          <p:cNvSpPr/>
          <p:nvPr/>
        </p:nvSpPr>
        <p:spPr>
          <a:xfrm>
            <a:off x="446040" y="1235160"/>
            <a:ext cx="82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262626"/>
                </a:solidFill>
                <a:latin typeface="Calibri"/>
              </a:rPr>
              <a:t>内部控制制度不健全，存在滞后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没有形成严格的业务流程和风险控制点，没有形成统一的内部控制整体框架，因而难以形成以制度管事、以制度管人的内部控制制度体系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内部控制制度建设存在滞后性，没有随业务环境的变化及时修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81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文本框 1"/>
          <p:cNvSpPr/>
          <p:nvPr/>
        </p:nvSpPr>
        <p:spPr>
          <a:xfrm>
            <a:off x="446040" y="1235160"/>
            <a:ext cx="82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2.  </a:t>
            </a:r>
            <a:r>
              <a:rPr b="1" lang="zh-CN" sz="3200" spc="-1" strike="noStrike">
                <a:solidFill>
                  <a:srgbClr val="262626"/>
                </a:solidFill>
                <a:latin typeface="Calibri"/>
              </a:rPr>
              <a:t>制度缺乏有效性，内控执行不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内部控制制度仅仅停留在表明而没有切实有效地发挥应有的作用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部分工作人员在执行制度过程中原则性不强或者存在好人主义，使得制度不能以一贯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4"/>
          <p:cNvSpPr/>
          <p:nvPr/>
        </p:nvSpPr>
        <p:spPr>
          <a:xfrm>
            <a:off x="0" y="1851120"/>
            <a:ext cx="42051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70c0"/>
                </a:solidFill>
                <a:latin typeface="微软雅黑"/>
                <a:ea typeface="微软雅黑"/>
              </a:rPr>
              <a:t>0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1"/>
          <p:cNvSpPr/>
          <p:nvPr/>
        </p:nvSpPr>
        <p:spPr>
          <a:xfrm>
            <a:off x="4156200" y="611280"/>
            <a:ext cx="4876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4336920" y="3132000"/>
            <a:ext cx="38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62626"/>
                </a:solidFill>
                <a:latin typeface="Calibri"/>
              </a:rPr>
              <a:t>原因分析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28560" y="382320"/>
            <a:ext cx="788688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监督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制衡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88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0" name="文本框 17"/>
          <p:cNvSpPr/>
          <p:nvPr/>
        </p:nvSpPr>
        <p:spPr>
          <a:xfrm>
            <a:off x="933480" y="411120"/>
            <a:ext cx="79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一）政府与学校之间的关系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没有理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1"/>
          <p:cNvSpPr/>
          <p:nvPr/>
        </p:nvSpPr>
        <p:spPr>
          <a:xfrm>
            <a:off x="446040" y="2017800"/>
            <a:ext cx="8228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公立学校存在着类似于国有企业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所有者缺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问题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校由于其国办性质，由政府作为支撑，一般不会因为风险的存在而破产，即使破产，也不会由学校主要领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买单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因而学校对风险不敏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93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文本框 17"/>
          <p:cNvSpPr/>
          <p:nvPr/>
        </p:nvSpPr>
        <p:spPr>
          <a:xfrm>
            <a:off x="1189080" y="425520"/>
            <a:ext cx="74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二）主要领导对内控重视不够，部分教职员工对内控模糊不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1"/>
          <p:cNvSpPr/>
          <p:nvPr/>
        </p:nvSpPr>
        <p:spPr>
          <a:xfrm>
            <a:off x="458640" y="1717560"/>
            <a:ext cx="82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有些学校领导不注重内控制度建设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部分教职员工对内控的认识模糊不清，认为内控是财务、审计、纪检督察的事，与平头百姓无关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内部控制制度大都停留在文件上，没有得到有效的贯彻执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398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7"/>
          <p:cNvSpPr/>
          <p:nvPr/>
        </p:nvSpPr>
        <p:spPr>
          <a:xfrm>
            <a:off x="1117440" y="711360"/>
            <a:ext cx="77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三）尚未建立科学有效的信息沟通机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"/>
          <p:cNvSpPr/>
          <p:nvPr/>
        </p:nvSpPr>
        <p:spPr>
          <a:xfrm>
            <a:off x="446040" y="2049480"/>
            <a:ext cx="8228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按照控制论理论，有效反馈控制信息才能逐渐地使控制系统处于动态平衡的状态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各部门为了本部门服务而建立相应的信息系统，然而信息系统各自独立和封闭，没有实现学校信息系统的整合，信息在沟通传递过程中存在一定障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4"/>
          <p:cNvSpPr/>
          <p:nvPr/>
        </p:nvSpPr>
        <p:spPr>
          <a:xfrm>
            <a:off x="0" y="1851120"/>
            <a:ext cx="42051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70c0"/>
                </a:solidFill>
                <a:latin typeface="微软雅黑"/>
                <a:ea typeface="微软雅黑"/>
              </a:rPr>
              <a:t>0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1"/>
          <p:cNvSpPr/>
          <p:nvPr/>
        </p:nvSpPr>
        <p:spPr>
          <a:xfrm>
            <a:off x="4260960" y="3156120"/>
            <a:ext cx="427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Calibri"/>
              </a:rPr>
              <a:t>手段与措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05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文本框 17"/>
          <p:cNvSpPr/>
          <p:nvPr/>
        </p:nvSpPr>
        <p:spPr>
          <a:xfrm>
            <a:off x="1317600" y="42552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一）单位层面内部控制要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1"/>
          <p:cNvSpPr/>
          <p:nvPr/>
        </p:nvSpPr>
        <p:spPr>
          <a:xfrm>
            <a:off x="446040" y="1677960"/>
            <a:ext cx="8228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建立内部控制的组织架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建立内部控制的工作机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内部控制关键岗位及相关工作人员的要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编报财务信息的要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运用信息化手段加强内部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10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文本框 17"/>
          <p:cNvSpPr/>
          <p:nvPr/>
        </p:nvSpPr>
        <p:spPr>
          <a:xfrm>
            <a:off x="1317600" y="425520"/>
            <a:ext cx="711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立内部控制的组织架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1"/>
          <p:cNvSpPr/>
          <p:nvPr/>
        </p:nvSpPr>
        <p:spPr>
          <a:xfrm>
            <a:off x="446040" y="1635120"/>
            <a:ext cx="822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单独设置内部控制职能部门或者确定牵头部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建立沟通协调机制，积极发挥相关部门或岗位的职能作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充分发挥单位内部审计、纪检监察部门的作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15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7" name="文本框 17"/>
          <p:cNvSpPr/>
          <p:nvPr/>
        </p:nvSpPr>
        <p:spPr>
          <a:xfrm>
            <a:off x="1317600" y="42552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立内部控制的工作机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文本框 1"/>
          <p:cNvSpPr/>
          <p:nvPr/>
        </p:nvSpPr>
        <p:spPr>
          <a:xfrm>
            <a:off x="446040" y="1235160"/>
            <a:ext cx="82281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单位经济活动的决策、执行和监督应当相互分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过程分离；岗位分离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建立健全议事决策机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集体研究、专家论证和技术咨询相结合；决策执行的追踪问效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建立健全内部控制关键岗位责任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设置关键岗位、落实责任制、实行轮岗制度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20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文本框 17"/>
          <p:cNvSpPr/>
          <p:nvPr/>
        </p:nvSpPr>
        <p:spPr>
          <a:xfrm>
            <a:off x="1317600" y="425520"/>
            <a:ext cx="71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对内部控制关键岗位工作人员的要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1"/>
          <p:cNvSpPr/>
          <p:nvPr/>
        </p:nvSpPr>
        <p:spPr>
          <a:xfrm>
            <a:off x="446040" y="1235160"/>
            <a:ext cx="822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Calibri"/>
              </a:rPr>
              <a:t>内部控制关键岗位：预算业务管理、收支业务管理、政府采购业务管理、资产管理、建设项目管理、合同管理及内部监督等经济活动的岗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把好人员入口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以人的风险防控意识、职业道德修养、专业胜任能力为基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加强业务培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提升专业胜任能力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强化职业道德教育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25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文本框 17"/>
          <p:cNvSpPr/>
          <p:nvPr/>
        </p:nvSpPr>
        <p:spPr>
          <a:xfrm>
            <a:off x="1317600" y="425520"/>
            <a:ext cx="711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编报财务信息的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文本框 1"/>
          <p:cNvSpPr/>
          <p:nvPr/>
        </p:nvSpPr>
        <p:spPr>
          <a:xfrm>
            <a:off x="446040" y="1235160"/>
            <a:ext cx="8228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严格按照法律规定建立会计机构和配备人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落实岗位责任制，确保不相容岗位相互分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加强会计基础工作管理，按法定要求编制和提供财务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建立财会部门与其它业务部门的沟通协调机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30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2" name="文本框 17"/>
          <p:cNvSpPr/>
          <p:nvPr/>
        </p:nvSpPr>
        <p:spPr>
          <a:xfrm>
            <a:off x="1317600" y="425520"/>
            <a:ext cx="71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运用信息化手段加强内部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1"/>
          <p:cNvSpPr/>
          <p:nvPr/>
        </p:nvSpPr>
        <p:spPr>
          <a:xfrm>
            <a:off x="446040" y="1606680"/>
            <a:ext cx="822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部控制信息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部控制信息化是将内控理念、控制流程、控制方法等要素，通过信息化手段固化到信息系统中，从而实现内控体系的系统化和常态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平行四边形 4"/>
          <p:cNvSpPr/>
          <p:nvPr/>
        </p:nvSpPr>
        <p:spPr>
          <a:xfrm flipH="1">
            <a:off x="-27000" y="-6480"/>
            <a:ext cx="4635360" cy="6904080"/>
          </a:xfrm>
          <a:custGeom>
            <a:avLst/>
            <a:gdLst/>
            <a:ahLst/>
            <a:rect l="l" t="t" r="r" b="b"/>
            <a:pathLst>
              <a:path w="4635476" h="6904592">
                <a:moveTo>
                  <a:pt x="0" y="6864251"/>
                </a:moveTo>
                <a:lnTo>
                  <a:pt x="3209177" y="0"/>
                </a:lnTo>
                <a:lnTo>
                  <a:pt x="4635408" y="0"/>
                </a:lnTo>
                <a:cubicBezTo>
                  <a:pt x="4636965" y="2028107"/>
                  <a:pt x="4611627" y="4876485"/>
                  <a:pt x="4613184" y="6904592"/>
                </a:cubicBezTo>
                <a:lnTo>
                  <a:pt x="0" y="686425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2"/>
          <p:cNvGrpSpPr/>
          <p:nvPr/>
        </p:nvGrpSpPr>
        <p:grpSpPr>
          <a:xfrm>
            <a:off x="1827360" y="1625760"/>
            <a:ext cx="828360" cy="828360"/>
            <a:chOff x="1827360" y="1625760"/>
            <a:chExt cx="828360" cy="828360"/>
          </a:xfrm>
        </p:grpSpPr>
        <p:sp>
          <p:nvSpPr>
            <p:cNvPr id="199" name="椭圆 8"/>
            <p:cNvSpPr/>
            <p:nvPr/>
          </p:nvSpPr>
          <p:spPr>
            <a:xfrm>
              <a:off x="1827360" y="1625760"/>
              <a:ext cx="828360" cy="828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文本框 12"/>
            <p:cNvSpPr/>
            <p:nvPr/>
          </p:nvSpPr>
          <p:spPr>
            <a:xfrm>
              <a:off x="1904400" y="178272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3"/>
          <p:cNvGrpSpPr/>
          <p:nvPr/>
        </p:nvGrpSpPr>
        <p:grpSpPr>
          <a:xfrm>
            <a:off x="2406600" y="2838600"/>
            <a:ext cx="827280" cy="828360"/>
            <a:chOff x="2406600" y="2838600"/>
            <a:chExt cx="827280" cy="828360"/>
          </a:xfrm>
        </p:grpSpPr>
        <p:sp>
          <p:nvSpPr>
            <p:cNvPr id="202" name="椭圆 9"/>
            <p:cNvSpPr/>
            <p:nvPr/>
          </p:nvSpPr>
          <p:spPr>
            <a:xfrm>
              <a:off x="2406600" y="2838600"/>
              <a:ext cx="827280" cy="828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文本框 13"/>
            <p:cNvSpPr/>
            <p:nvPr/>
          </p:nvSpPr>
          <p:spPr>
            <a:xfrm>
              <a:off x="2483280" y="2990880"/>
              <a:ext cx="67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6"/>
          <p:cNvGrpSpPr/>
          <p:nvPr/>
        </p:nvGrpSpPr>
        <p:grpSpPr>
          <a:xfrm>
            <a:off x="2984400" y="4046400"/>
            <a:ext cx="828720" cy="828720"/>
            <a:chOff x="2984400" y="4046400"/>
            <a:chExt cx="828720" cy="828720"/>
          </a:xfrm>
        </p:grpSpPr>
        <p:sp>
          <p:nvSpPr>
            <p:cNvPr id="205" name="椭圆 10"/>
            <p:cNvSpPr/>
            <p:nvPr/>
          </p:nvSpPr>
          <p:spPr>
            <a:xfrm>
              <a:off x="2984400" y="4046400"/>
              <a:ext cx="828720" cy="828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文本框 14"/>
            <p:cNvSpPr/>
            <p:nvPr/>
          </p:nvSpPr>
          <p:spPr>
            <a:xfrm>
              <a:off x="3061440" y="419868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7"/>
          <p:cNvGrpSpPr/>
          <p:nvPr/>
        </p:nvGrpSpPr>
        <p:grpSpPr>
          <a:xfrm>
            <a:off x="3564000" y="5254560"/>
            <a:ext cx="826920" cy="828720"/>
            <a:chOff x="3564000" y="5254560"/>
            <a:chExt cx="826920" cy="828720"/>
          </a:xfrm>
        </p:grpSpPr>
        <p:sp>
          <p:nvSpPr>
            <p:cNvPr id="208" name="椭圆 11"/>
            <p:cNvSpPr/>
            <p:nvPr/>
          </p:nvSpPr>
          <p:spPr>
            <a:xfrm>
              <a:off x="3564000" y="5254560"/>
              <a:ext cx="826920" cy="828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15"/>
            <p:cNvSpPr/>
            <p:nvPr/>
          </p:nvSpPr>
          <p:spPr>
            <a:xfrm>
              <a:off x="3640680" y="5406840"/>
              <a:ext cx="67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文本框 16"/>
          <p:cNvSpPr/>
          <p:nvPr/>
        </p:nvSpPr>
        <p:spPr>
          <a:xfrm>
            <a:off x="2995560" y="169560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正确认识内部控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554280" y="2927520"/>
            <a:ext cx="51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黑体"/>
                <a:ea typeface="黑体"/>
              </a:rPr>
              <a:t>教育系统内控现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21"/>
          <p:cNvSpPr/>
          <p:nvPr/>
        </p:nvSpPr>
        <p:spPr>
          <a:xfrm>
            <a:off x="4148280" y="4159080"/>
            <a:ext cx="49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黑体"/>
                <a:ea typeface="黑体"/>
              </a:rPr>
              <a:t>原因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22"/>
          <p:cNvSpPr/>
          <p:nvPr/>
        </p:nvSpPr>
        <p:spPr>
          <a:xfrm>
            <a:off x="4729320" y="5392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黑体"/>
                <a:ea typeface="黑体"/>
              </a:rPr>
              <a:t>手段与措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24"/>
          <p:cNvSpPr/>
          <p:nvPr/>
        </p:nvSpPr>
        <p:spPr>
          <a:xfrm>
            <a:off x="4362480" y="258840"/>
            <a:ext cx="42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28560" y="453600"/>
            <a:ext cx="788688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二）单位内部控制的控制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相容岗位相互分离：相互制约、相互监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部授权审批控制：明确各岗位办理业务和事项的权限范围、审批程序和相关责任。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建立重大事项集体决策和会签制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相关人员在授权范围内行使职权、办理业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归口管理：权责对等的原则确定牵头部门和牵头人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预算控制：预算贯穿经济活动的全过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28560" y="482400"/>
            <a:ext cx="7886880" cy="56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财产保护控制：通过定期清查、盘点，账实核对等确保资产安全完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会计控制：规范会计基础工作、加强档案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单据控制：相关人员应按规定填写、审核、归档、保管单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信息公开：确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信息公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内容、范围、方式、程序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628560" y="367920"/>
            <a:ext cx="788688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三）业务层面的内部控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预算业务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收支业务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政府采购业务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资产项目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建设项目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合同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38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文本框 1"/>
          <p:cNvSpPr/>
          <p:nvPr/>
        </p:nvSpPr>
        <p:spPr>
          <a:xfrm>
            <a:off x="446040" y="835200"/>
            <a:ext cx="82281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四）具体工作步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梳理经济活动业务流程、明确业务环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系统分析经济活动风险、确定风险所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选择风险应对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根据国家有关规定和单位实际情况、建立健全管理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督促相关工作人员认真执行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42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文本框 17"/>
          <p:cNvSpPr/>
          <p:nvPr/>
        </p:nvSpPr>
        <p:spPr>
          <a:xfrm>
            <a:off x="1317600" y="425520"/>
            <a:ext cx="71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如何设计和实施（举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227160" y="1558800"/>
            <a:ext cx="1252440" cy="401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了解经济活动管理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3"/>
          <p:cNvSpPr/>
          <p:nvPr/>
        </p:nvSpPr>
        <p:spPr>
          <a:xfrm>
            <a:off x="2168640" y="1589040"/>
            <a:ext cx="1251000" cy="4014720"/>
          </a:xfrm>
          <a:prstGeom prst="rect">
            <a:avLst/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对单位业务活动流程和适用的法律法规进行全面梳理，找出风险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064040" y="1589040"/>
            <a:ext cx="1252440" cy="4014720"/>
          </a:xfrm>
          <a:prstGeom prst="rect">
            <a:avLst/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根据找出的风险点、结合现行的法律法规，来选择具体应对措施，建立健全内部管理制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5"/>
          <p:cNvSpPr/>
          <p:nvPr/>
        </p:nvSpPr>
        <p:spPr>
          <a:xfrm>
            <a:off x="5959440" y="1589040"/>
            <a:ext cx="1252440" cy="4014720"/>
          </a:xfrm>
          <a:prstGeom prst="rect">
            <a:avLst/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采取有效监督措施切实保障各项制度得到贯彻实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6"/>
          <p:cNvSpPr/>
          <p:nvPr/>
        </p:nvSpPr>
        <p:spPr>
          <a:xfrm>
            <a:off x="7805880" y="1636560"/>
            <a:ext cx="1252440" cy="401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对单位内部控制设计和实施情况进行评价，不断完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右箭头 7"/>
          <p:cNvSpPr/>
          <p:nvPr/>
        </p:nvSpPr>
        <p:spPr>
          <a:xfrm>
            <a:off x="1639800" y="3244680"/>
            <a:ext cx="465120" cy="43344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右箭头 9"/>
          <p:cNvSpPr/>
          <p:nvPr/>
        </p:nvSpPr>
        <p:spPr>
          <a:xfrm>
            <a:off x="3549600" y="3306600"/>
            <a:ext cx="466920" cy="43344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右箭头 10"/>
          <p:cNvSpPr/>
          <p:nvPr/>
        </p:nvSpPr>
        <p:spPr>
          <a:xfrm>
            <a:off x="5427720" y="3338640"/>
            <a:ext cx="466560" cy="4334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11"/>
          <p:cNvSpPr/>
          <p:nvPr/>
        </p:nvSpPr>
        <p:spPr>
          <a:xfrm>
            <a:off x="7340760" y="3340080"/>
            <a:ext cx="465120" cy="43344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070c0"/>
          </a:solidFill>
          <a:ln w="1260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55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7" name="文本框 17"/>
          <p:cNvSpPr/>
          <p:nvPr/>
        </p:nvSpPr>
        <p:spPr>
          <a:xfrm>
            <a:off x="1324080" y="361800"/>
            <a:ext cx="72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固定资产管理风险及控制措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图片 3" descr=""/>
          <p:cNvPicPr/>
          <p:nvPr/>
        </p:nvPicPr>
        <p:blipFill>
          <a:blip r:embed="rId1"/>
          <a:stretch/>
        </p:blipFill>
        <p:spPr>
          <a:xfrm>
            <a:off x="235080" y="1158840"/>
            <a:ext cx="85741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460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文本框 17"/>
          <p:cNvSpPr/>
          <p:nvPr/>
        </p:nvSpPr>
        <p:spPr>
          <a:xfrm>
            <a:off x="1419120" y="3618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固定资产管理风险及控制措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图片 1" descr=""/>
          <p:cNvPicPr/>
          <p:nvPr/>
        </p:nvPicPr>
        <p:blipFill>
          <a:blip r:embed="rId1"/>
          <a:stretch/>
        </p:blipFill>
        <p:spPr>
          <a:xfrm>
            <a:off x="243000" y="1141560"/>
            <a:ext cx="87501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直角三角形 132"/>
          <p:cNvSpPr/>
          <p:nvPr/>
        </p:nvSpPr>
        <p:spPr>
          <a:xfrm flipV="1" rot="10800000">
            <a:off x="914400" y="4645440"/>
            <a:ext cx="8229600" cy="2211480"/>
          </a:xfrm>
          <a:prstGeom prst="rtTriangle">
            <a:avLst/>
          </a:prstGeom>
          <a:solidFill>
            <a:srgbClr val="005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角三角形 131"/>
          <p:cNvSpPr/>
          <p:nvPr/>
        </p:nvSpPr>
        <p:spPr>
          <a:xfrm rot="5400000">
            <a:off x="1856880" y="-1857240"/>
            <a:ext cx="1409760" cy="5124600"/>
          </a:xfrm>
          <a:prstGeom prst="rtTriangle">
            <a:avLst/>
          </a:prstGeom>
          <a:solidFill>
            <a:srgbClr val="005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133"/>
          <p:cNvSpPr/>
          <p:nvPr/>
        </p:nvSpPr>
        <p:spPr>
          <a:xfrm>
            <a:off x="1822320" y="2265480"/>
            <a:ext cx="59547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3a3"/>
                </a:solidFill>
                <a:latin typeface="Arial"/>
                <a:ea typeface="微软雅黑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7" name="Group 39"/>
          <p:cNvGrpSpPr/>
          <p:nvPr/>
        </p:nvGrpSpPr>
        <p:grpSpPr>
          <a:xfrm>
            <a:off x="368280" y="220680"/>
            <a:ext cx="666720" cy="624960"/>
            <a:chOff x="368280" y="220680"/>
            <a:chExt cx="666720" cy="624960"/>
          </a:xfrm>
        </p:grpSpPr>
        <p:sp>
          <p:nvSpPr>
            <p:cNvPr id="468" name="Freeform 40"/>
            <p:cNvSpPr/>
            <p:nvPr/>
          </p:nvSpPr>
          <p:spPr>
            <a:xfrm>
              <a:off x="368280" y="264600"/>
              <a:ext cx="666720" cy="4471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20" h="80">
                  <a:moveTo>
                    <a:pt x="8" y="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71"/>
                    <a:pt x="49" y="80"/>
                    <a:pt x="60" y="80"/>
                  </a:cubicBezTo>
                  <a:cubicBezTo>
                    <a:pt x="71" y="80"/>
                    <a:pt x="80" y="71"/>
                    <a:pt x="80" y="60"/>
                  </a:cubicBezTo>
                  <a:cubicBezTo>
                    <a:pt x="120" y="60"/>
                    <a:pt x="120" y="60"/>
                    <a:pt x="120" y="60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1"/>
            <p:cNvSpPr/>
            <p:nvPr/>
          </p:nvSpPr>
          <p:spPr>
            <a:xfrm>
              <a:off x="368280" y="667080"/>
              <a:ext cx="666720" cy="1785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78560"/>
                <a:gd name="textAreaBottom" fmla="*/ 178560 h 178560"/>
              </a:gdLst>
              <a:ahLst/>
              <a:rect l="textAreaLeft" t="textAreaTop" r="textAreaRight" b="textAreaBottom"/>
              <a:pathLst>
                <a:path w="1268" h="339">
                  <a:moveTo>
                    <a:pt x="0" y="0"/>
                  </a:moveTo>
                  <a:lnTo>
                    <a:pt x="0" y="339"/>
                  </a:lnTo>
                  <a:lnTo>
                    <a:pt x="1268" y="339"/>
                  </a:lnTo>
                  <a:lnTo>
                    <a:pt x="1268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2"/>
            <p:cNvSpPr/>
            <p:nvPr/>
          </p:nvSpPr>
          <p:spPr>
            <a:xfrm>
              <a:off x="501840" y="220680"/>
              <a:ext cx="399600" cy="31248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60" h="593">
                  <a:moveTo>
                    <a:pt x="760" y="593"/>
                  </a:moveTo>
                  <a:lnTo>
                    <a:pt x="760" y="0"/>
                  </a:lnTo>
                  <a:lnTo>
                    <a:pt x="0" y="0"/>
                  </a:lnTo>
                  <a:lnTo>
                    <a:pt x="0" y="59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Line 43"/>
            <p:cNvSpPr/>
            <p:nvPr/>
          </p:nvSpPr>
          <p:spPr>
            <a:xfrm>
              <a:off x="568080" y="309600"/>
              <a:ext cx="11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Line 44"/>
            <p:cNvSpPr/>
            <p:nvPr/>
          </p:nvSpPr>
          <p:spPr>
            <a:xfrm>
              <a:off x="568080" y="398880"/>
              <a:ext cx="26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Line 45"/>
            <p:cNvSpPr/>
            <p:nvPr/>
          </p:nvSpPr>
          <p:spPr>
            <a:xfrm>
              <a:off x="568080" y="488520"/>
              <a:ext cx="26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4"/>
          <p:cNvSpPr/>
          <p:nvPr/>
        </p:nvSpPr>
        <p:spPr>
          <a:xfrm>
            <a:off x="272880" y="1851120"/>
            <a:ext cx="37306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70c0"/>
                </a:solidFill>
                <a:latin typeface="微软雅黑"/>
                <a:ea typeface="微软雅黑"/>
              </a:rPr>
              <a:t>0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4032360" y="2712960"/>
            <a:ext cx="4811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正确认识内部控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218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文本框 17"/>
          <p:cNvSpPr/>
          <p:nvPr/>
        </p:nvSpPr>
        <p:spPr>
          <a:xfrm>
            <a:off x="1419120" y="36180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一）什么是内部控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6040" y="1235160"/>
            <a:ext cx="82281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单位为实现控制目标，通过制定制度、实施措施和执行程序，对经济活动的风险进行防范和管控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W+1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谁执行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适用主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控什么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适用客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如何控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控制机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为何控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控制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223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文本框 17"/>
          <p:cNvSpPr/>
          <p:nvPr/>
        </p:nvSpPr>
        <p:spPr>
          <a:xfrm>
            <a:off x="1019160" y="53352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内部控制是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6" descr="j0229389"/>
          <p:cNvPicPr/>
          <p:nvPr/>
        </p:nvPicPr>
        <p:blipFill>
          <a:blip r:embed="rId1"/>
          <a:stretch/>
        </p:blipFill>
        <p:spPr>
          <a:xfrm>
            <a:off x="2301840" y="1182600"/>
            <a:ext cx="5127840" cy="53992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3540240" y="2584440"/>
            <a:ext cx="295092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工具、方法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制度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标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审计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229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文本框 17"/>
          <p:cNvSpPr/>
          <p:nvPr/>
        </p:nvSpPr>
        <p:spPr>
          <a:xfrm>
            <a:off x="1019160" y="53352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内部控制是…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具、方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26627"/>
          <p:cNvGrpSpPr/>
          <p:nvPr/>
        </p:nvGrpSpPr>
        <p:grpSpPr>
          <a:xfrm>
            <a:off x="611280" y="2205000"/>
            <a:ext cx="7992720" cy="1368360"/>
            <a:chOff x="611280" y="2205000"/>
            <a:chExt cx="7992720" cy="1368360"/>
          </a:xfrm>
        </p:grpSpPr>
        <p:grpSp>
          <p:nvGrpSpPr>
            <p:cNvPr id="233" name="组合 26628"/>
            <p:cNvGrpSpPr/>
            <p:nvPr/>
          </p:nvGrpSpPr>
          <p:grpSpPr>
            <a:xfrm>
              <a:off x="2835720" y="2324160"/>
              <a:ext cx="2153880" cy="1070640"/>
              <a:chOff x="2835720" y="2324160"/>
              <a:chExt cx="2153880" cy="1070640"/>
            </a:xfrm>
          </p:grpSpPr>
          <p:sp>
            <p:nvSpPr>
              <p:cNvPr id="234" name="Oval 6"/>
              <p:cNvSpPr/>
              <p:nvPr/>
            </p:nvSpPr>
            <p:spPr>
              <a:xfrm>
                <a:off x="2835720" y="2324160"/>
                <a:ext cx="2153880" cy="107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WordArt 7"/>
              <p:cNvSpPr txBox="1"/>
              <p:nvPr/>
            </p:nvSpPr>
            <p:spPr>
              <a:xfrm>
                <a:off x="3553560" y="2837520"/>
                <a:ext cx="746640" cy="49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32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78000"/>
                        </a:srgbClr>
                      </a:outerShdw>
                    </a:effectLst>
                    <a:latin typeface="宋体"/>
                  </a:rPr>
                  <a:t>工具</a:t>
                </a:r>
                <a:endPara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8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236" name="Picture 8" descr="j0252349"/>
              <p:cNvPicPr/>
              <p:nvPr/>
            </p:nvPicPr>
            <p:blipFill>
              <a:blip r:embed="rId1"/>
              <a:stretch/>
            </p:blipFill>
            <p:spPr>
              <a:xfrm>
                <a:off x="3358080" y="2494800"/>
                <a:ext cx="1114920" cy="399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WordArt 9"/>
            <p:cNvSpPr txBox="1"/>
            <p:nvPr/>
          </p:nvSpPr>
          <p:spPr>
            <a:xfrm>
              <a:off x="611280" y="2680560"/>
              <a:ext cx="1112040" cy="41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内控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238" name="组合 26633"/>
            <p:cNvGrpSpPr/>
            <p:nvPr/>
          </p:nvGrpSpPr>
          <p:grpSpPr>
            <a:xfrm>
              <a:off x="2071080" y="2799720"/>
              <a:ext cx="417960" cy="178200"/>
              <a:chOff x="2071080" y="2799720"/>
              <a:chExt cx="417960" cy="178200"/>
            </a:xfrm>
          </p:grpSpPr>
          <p:sp>
            <p:nvSpPr>
              <p:cNvPr id="239" name="Line 11"/>
              <p:cNvSpPr/>
              <p:nvPr/>
            </p:nvSpPr>
            <p:spPr>
              <a:xfrm>
                <a:off x="2071080" y="2799720"/>
                <a:ext cx="417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12"/>
              <p:cNvSpPr/>
              <p:nvPr/>
            </p:nvSpPr>
            <p:spPr>
              <a:xfrm>
                <a:off x="2071080" y="2977920"/>
                <a:ext cx="417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1" name="AutoShape 13"/>
            <p:cNvSpPr/>
            <p:nvPr/>
          </p:nvSpPr>
          <p:spPr>
            <a:xfrm>
              <a:off x="5267160" y="2739600"/>
              <a:ext cx="626760" cy="178200"/>
            </a:xfrm>
            <a:prstGeom prst="rightArrow">
              <a:avLst>
                <a:gd name="adj1" fmla="val 50000"/>
                <a:gd name="adj2" fmla="val 87929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AutoShape 14"/>
            <p:cNvSpPr/>
            <p:nvPr/>
          </p:nvSpPr>
          <p:spPr>
            <a:xfrm>
              <a:off x="6102000" y="2205000"/>
              <a:ext cx="2502000" cy="136836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有效地和有效率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去避免业务运作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发生严重的问题</a:t>
              </a:r>
              <a:r>
                <a:rPr b="1" lang="zh-CN" sz="2400" spc="-1" strike="noStrike">
                  <a:solidFill>
                    <a:srgbClr val="6754ae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26638"/>
          <p:cNvGrpSpPr/>
          <p:nvPr/>
        </p:nvGrpSpPr>
        <p:grpSpPr>
          <a:xfrm>
            <a:off x="554040" y="3933720"/>
            <a:ext cx="7993080" cy="1441440"/>
            <a:chOff x="554040" y="3933720"/>
            <a:chExt cx="7993080" cy="1441440"/>
          </a:xfrm>
        </p:grpSpPr>
        <p:grpSp>
          <p:nvGrpSpPr>
            <p:cNvPr id="244" name="组合 26639"/>
            <p:cNvGrpSpPr/>
            <p:nvPr/>
          </p:nvGrpSpPr>
          <p:grpSpPr>
            <a:xfrm>
              <a:off x="2082960" y="4519440"/>
              <a:ext cx="419040" cy="176400"/>
              <a:chOff x="2082960" y="4519440"/>
              <a:chExt cx="419040" cy="176400"/>
            </a:xfrm>
          </p:grpSpPr>
          <p:sp>
            <p:nvSpPr>
              <p:cNvPr id="245" name="Line 17"/>
              <p:cNvSpPr/>
              <p:nvPr/>
            </p:nvSpPr>
            <p:spPr>
              <a:xfrm>
                <a:off x="2082960" y="4519440"/>
                <a:ext cx="419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18"/>
              <p:cNvSpPr/>
              <p:nvPr/>
            </p:nvSpPr>
            <p:spPr>
              <a:xfrm>
                <a:off x="2082960" y="4695840"/>
                <a:ext cx="419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WordArt 19"/>
            <p:cNvSpPr txBox="1"/>
            <p:nvPr/>
          </p:nvSpPr>
          <p:spPr>
            <a:xfrm>
              <a:off x="554040" y="4402080"/>
              <a:ext cx="118116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内控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248" name="组合 26643"/>
            <p:cNvGrpSpPr/>
            <p:nvPr/>
          </p:nvGrpSpPr>
          <p:grpSpPr>
            <a:xfrm>
              <a:off x="2639880" y="4051080"/>
              <a:ext cx="2570400" cy="1324080"/>
              <a:chOff x="2639880" y="4051080"/>
              <a:chExt cx="2570400" cy="1324080"/>
            </a:xfrm>
          </p:grpSpPr>
          <p:sp>
            <p:nvSpPr>
              <p:cNvPr id="249" name="Oval 21"/>
              <p:cNvSpPr/>
              <p:nvPr/>
            </p:nvSpPr>
            <p:spPr>
              <a:xfrm>
                <a:off x="2639880" y="4051080"/>
                <a:ext cx="2570400" cy="132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tebulb"/>
              <p:cNvSpPr/>
              <p:nvPr/>
            </p:nvSpPr>
            <p:spPr>
              <a:xfrm>
                <a:off x="3472920" y="4108680"/>
                <a:ext cx="834480" cy="585720"/>
              </a:xfrm>
              <a:custGeom>
                <a:avLst/>
                <a:gdLst>
                  <a:gd name="textAreaLeft" fmla="*/ 137520 w 834480"/>
                  <a:gd name="textAreaRight" fmla="*/ 705960 w 834480"/>
                  <a:gd name="textAreaTop" fmla="*/ 59040 h 585720"/>
                  <a:gd name="textAreaBottom" fmla="*/ 251640 h 585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25" y="21723"/>
                    </a:moveTo>
                    <a:lnTo>
                      <a:pt x="11215" y="21723"/>
                    </a:lnTo>
                    <a:lnTo>
                      <a:pt x="11552" y="21688"/>
                    </a:lnTo>
                    <a:lnTo>
                      <a:pt x="11916" y="21617"/>
                    </a:lnTo>
                    <a:lnTo>
                      <a:pt x="12253" y="21547"/>
                    </a:lnTo>
                    <a:lnTo>
                      <a:pt x="12617" y="21441"/>
                    </a:lnTo>
                    <a:lnTo>
                      <a:pt x="12902" y="21317"/>
                    </a:lnTo>
                    <a:lnTo>
                      <a:pt x="13162" y="21176"/>
                    </a:lnTo>
                    <a:lnTo>
                      <a:pt x="13396" y="21000"/>
                    </a:lnTo>
                    <a:lnTo>
                      <a:pt x="13655" y="20841"/>
                    </a:lnTo>
                    <a:lnTo>
                      <a:pt x="13863" y="20629"/>
                    </a:lnTo>
                    <a:lnTo>
                      <a:pt x="14045" y="20435"/>
                    </a:lnTo>
                    <a:lnTo>
                      <a:pt x="14200" y="20223"/>
                    </a:lnTo>
                    <a:lnTo>
                      <a:pt x="14356" y="19994"/>
                    </a:lnTo>
                    <a:lnTo>
                      <a:pt x="14460" y="19747"/>
                    </a:lnTo>
                    <a:lnTo>
                      <a:pt x="14512" y="19482"/>
                    </a:lnTo>
                    <a:lnTo>
                      <a:pt x="14512" y="19235"/>
                    </a:lnTo>
                    <a:lnTo>
                      <a:pt x="14512" y="19147"/>
                    </a:lnTo>
                    <a:lnTo>
                      <a:pt x="14512" y="18900"/>
                    </a:lnTo>
                    <a:lnTo>
                      <a:pt x="14512" y="18529"/>
                    </a:lnTo>
                    <a:lnTo>
                      <a:pt x="14512" y="18052"/>
                    </a:lnTo>
                    <a:lnTo>
                      <a:pt x="14512" y="17505"/>
                    </a:lnTo>
                    <a:lnTo>
                      <a:pt x="14512" y="16976"/>
                    </a:lnTo>
                    <a:lnTo>
                      <a:pt x="14512" y="16464"/>
                    </a:lnTo>
                    <a:lnTo>
                      <a:pt x="14512" y="15952"/>
                    </a:lnTo>
                    <a:lnTo>
                      <a:pt x="14512" y="15758"/>
                    </a:lnTo>
                    <a:lnTo>
                      <a:pt x="14616" y="15547"/>
                    </a:lnTo>
                    <a:lnTo>
                      <a:pt x="14694" y="15352"/>
                    </a:lnTo>
                    <a:lnTo>
                      <a:pt x="14798" y="15141"/>
                    </a:lnTo>
                    <a:lnTo>
                      <a:pt x="15161" y="14735"/>
                    </a:lnTo>
                    <a:lnTo>
                      <a:pt x="15602" y="14329"/>
                    </a:lnTo>
                    <a:lnTo>
                      <a:pt x="16745" y="13552"/>
                    </a:lnTo>
                    <a:lnTo>
                      <a:pt x="18043" y="12670"/>
                    </a:lnTo>
                    <a:lnTo>
                      <a:pt x="18744" y="12194"/>
                    </a:lnTo>
                    <a:lnTo>
                      <a:pt x="19341" y="11647"/>
                    </a:lnTo>
                    <a:lnTo>
                      <a:pt x="19938" y="11099"/>
                    </a:lnTo>
                    <a:lnTo>
                      <a:pt x="20483" y="10464"/>
                    </a:lnTo>
                    <a:lnTo>
                      <a:pt x="20743" y="10164"/>
                    </a:lnTo>
                    <a:lnTo>
                      <a:pt x="20950" y="9794"/>
                    </a:lnTo>
                    <a:lnTo>
                      <a:pt x="21132" y="9441"/>
                    </a:lnTo>
                    <a:lnTo>
                      <a:pt x="21288" y="9035"/>
                    </a:lnTo>
                    <a:lnTo>
                      <a:pt x="21444" y="8664"/>
                    </a:lnTo>
                    <a:lnTo>
                      <a:pt x="21548" y="8223"/>
                    </a:lnTo>
                    <a:lnTo>
                      <a:pt x="21600" y="7782"/>
                    </a:lnTo>
                    <a:lnTo>
                      <a:pt x="21600" y="7341"/>
                    </a:lnTo>
                    <a:lnTo>
                      <a:pt x="21600" y="6935"/>
                    </a:lnTo>
                    <a:lnTo>
                      <a:pt x="21548" y="6564"/>
                    </a:lnTo>
                    <a:lnTo>
                      <a:pt x="21496" y="6229"/>
                    </a:lnTo>
                    <a:lnTo>
                      <a:pt x="21392" y="5858"/>
                    </a:lnTo>
                    <a:lnTo>
                      <a:pt x="21288" y="5523"/>
                    </a:lnTo>
                    <a:lnTo>
                      <a:pt x="21132" y="5135"/>
                    </a:lnTo>
                    <a:lnTo>
                      <a:pt x="20950" y="4800"/>
                    </a:lnTo>
                    <a:lnTo>
                      <a:pt x="20743" y="4464"/>
                    </a:lnTo>
                    <a:lnTo>
                      <a:pt x="20535" y="4164"/>
                    </a:lnTo>
                    <a:lnTo>
                      <a:pt x="20301" y="3847"/>
                    </a:lnTo>
                    <a:lnTo>
                      <a:pt x="20042" y="3547"/>
                    </a:lnTo>
                    <a:lnTo>
                      <a:pt x="19782" y="3247"/>
                    </a:lnTo>
                    <a:lnTo>
                      <a:pt x="19133" y="2664"/>
                    </a:lnTo>
                    <a:lnTo>
                      <a:pt x="18458" y="2152"/>
                    </a:lnTo>
                    <a:lnTo>
                      <a:pt x="17705" y="1694"/>
                    </a:lnTo>
                    <a:lnTo>
                      <a:pt x="16849" y="1252"/>
                    </a:lnTo>
                    <a:lnTo>
                      <a:pt x="16407" y="1076"/>
                    </a:lnTo>
                    <a:lnTo>
                      <a:pt x="15940" y="900"/>
                    </a:lnTo>
                    <a:lnTo>
                      <a:pt x="15499" y="741"/>
                    </a:lnTo>
                    <a:lnTo>
                      <a:pt x="15057" y="600"/>
                    </a:lnTo>
                    <a:lnTo>
                      <a:pt x="14564" y="458"/>
                    </a:lnTo>
                    <a:lnTo>
                      <a:pt x="14045" y="335"/>
                    </a:lnTo>
                    <a:lnTo>
                      <a:pt x="13500" y="229"/>
                    </a:lnTo>
                    <a:lnTo>
                      <a:pt x="13006" y="158"/>
                    </a:lnTo>
                    <a:lnTo>
                      <a:pt x="12461" y="88"/>
                    </a:lnTo>
                    <a:lnTo>
                      <a:pt x="11968" y="52"/>
                    </a:lnTo>
                    <a:lnTo>
                      <a:pt x="11423" y="17"/>
                    </a:lnTo>
                    <a:lnTo>
                      <a:pt x="10825" y="17"/>
                    </a:lnTo>
                    <a:lnTo>
                      <a:pt x="10254" y="17"/>
                    </a:lnTo>
                    <a:lnTo>
                      <a:pt x="9709" y="52"/>
                    </a:lnTo>
                    <a:lnTo>
                      <a:pt x="9216" y="88"/>
                    </a:lnTo>
                    <a:lnTo>
                      <a:pt x="8671" y="158"/>
                    </a:lnTo>
                    <a:lnTo>
                      <a:pt x="8177" y="229"/>
                    </a:lnTo>
                    <a:lnTo>
                      <a:pt x="7632" y="335"/>
                    </a:lnTo>
                    <a:lnTo>
                      <a:pt x="7113" y="458"/>
                    </a:lnTo>
                    <a:lnTo>
                      <a:pt x="6620" y="600"/>
                    </a:lnTo>
                    <a:lnTo>
                      <a:pt x="6178" y="741"/>
                    </a:lnTo>
                    <a:lnTo>
                      <a:pt x="5737" y="900"/>
                    </a:lnTo>
                    <a:lnTo>
                      <a:pt x="5270" y="1076"/>
                    </a:lnTo>
                    <a:lnTo>
                      <a:pt x="4828" y="1252"/>
                    </a:lnTo>
                    <a:lnTo>
                      <a:pt x="3972" y="1694"/>
                    </a:lnTo>
                    <a:lnTo>
                      <a:pt x="3219" y="2152"/>
                    </a:lnTo>
                    <a:lnTo>
                      <a:pt x="2544" y="2664"/>
                    </a:lnTo>
                    <a:lnTo>
                      <a:pt x="1895" y="3247"/>
                    </a:lnTo>
                    <a:lnTo>
                      <a:pt x="1635" y="3547"/>
                    </a:lnTo>
                    <a:lnTo>
                      <a:pt x="1375" y="3847"/>
                    </a:lnTo>
                    <a:lnTo>
                      <a:pt x="1142" y="4164"/>
                    </a:lnTo>
                    <a:lnTo>
                      <a:pt x="934" y="4464"/>
                    </a:lnTo>
                    <a:lnTo>
                      <a:pt x="726" y="4800"/>
                    </a:lnTo>
                    <a:lnTo>
                      <a:pt x="545" y="5135"/>
                    </a:lnTo>
                    <a:lnTo>
                      <a:pt x="389" y="5523"/>
                    </a:lnTo>
                    <a:lnTo>
                      <a:pt x="285" y="5858"/>
                    </a:lnTo>
                    <a:lnTo>
                      <a:pt x="181" y="6229"/>
                    </a:lnTo>
                    <a:lnTo>
                      <a:pt x="129" y="6564"/>
                    </a:lnTo>
                    <a:lnTo>
                      <a:pt x="77" y="6935"/>
                    </a:lnTo>
                    <a:lnTo>
                      <a:pt x="77" y="7341"/>
                    </a:lnTo>
                    <a:lnTo>
                      <a:pt x="77" y="7782"/>
                    </a:lnTo>
                    <a:lnTo>
                      <a:pt x="129" y="8223"/>
                    </a:lnTo>
                    <a:lnTo>
                      <a:pt x="233" y="8664"/>
                    </a:lnTo>
                    <a:lnTo>
                      <a:pt x="389" y="9035"/>
                    </a:lnTo>
                    <a:lnTo>
                      <a:pt x="545" y="9441"/>
                    </a:lnTo>
                    <a:lnTo>
                      <a:pt x="726" y="9794"/>
                    </a:lnTo>
                    <a:lnTo>
                      <a:pt x="934" y="10164"/>
                    </a:lnTo>
                    <a:lnTo>
                      <a:pt x="1194" y="10464"/>
                    </a:lnTo>
                    <a:lnTo>
                      <a:pt x="1739" y="11099"/>
                    </a:lnTo>
                    <a:lnTo>
                      <a:pt x="2336" y="11647"/>
                    </a:lnTo>
                    <a:lnTo>
                      <a:pt x="2933" y="12194"/>
                    </a:lnTo>
                    <a:lnTo>
                      <a:pt x="3634" y="12670"/>
                    </a:lnTo>
                    <a:lnTo>
                      <a:pt x="4932" y="13552"/>
                    </a:lnTo>
                    <a:lnTo>
                      <a:pt x="6075" y="14329"/>
                    </a:lnTo>
                    <a:lnTo>
                      <a:pt x="6516" y="14735"/>
                    </a:lnTo>
                    <a:lnTo>
                      <a:pt x="6879" y="15141"/>
                    </a:lnTo>
                    <a:lnTo>
                      <a:pt x="6983" y="15352"/>
                    </a:lnTo>
                    <a:lnTo>
                      <a:pt x="7061" y="15547"/>
                    </a:lnTo>
                    <a:lnTo>
                      <a:pt x="7165" y="15758"/>
                    </a:lnTo>
                    <a:lnTo>
                      <a:pt x="7165" y="15952"/>
                    </a:lnTo>
                    <a:lnTo>
                      <a:pt x="7165" y="16464"/>
                    </a:lnTo>
                    <a:lnTo>
                      <a:pt x="7165" y="16976"/>
                    </a:lnTo>
                    <a:lnTo>
                      <a:pt x="7165" y="17505"/>
                    </a:lnTo>
                    <a:lnTo>
                      <a:pt x="7165" y="18052"/>
                    </a:lnTo>
                    <a:lnTo>
                      <a:pt x="7165" y="18529"/>
                    </a:lnTo>
                    <a:lnTo>
                      <a:pt x="7165" y="18900"/>
                    </a:lnTo>
                    <a:lnTo>
                      <a:pt x="7165" y="19147"/>
                    </a:lnTo>
                    <a:lnTo>
                      <a:pt x="7165" y="19235"/>
                    </a:lnTo>
                    <a:lnTo>
                      <a:pt x="7165" y="19482"/>
                    </a:lnTo>
                    <a:lnTo>
                      <a:pt x="7217" y="19747"/>
                    </a:lnTo>
                    <a:lnTo>
                      <a:pt x="7321" y="19994"/>
                    </a:lnTo>
                    <a:lnTo>
                      <a:pt x="7476" y="20223"/>
                    </a:lnTo>
                    <a:lnTo>
                      <a:pt x="7632" y="20435"/>
                    </a:lnTo>
                    <a:lnTo>
                      <a:pt x="7814" y="20629"/>
                    </a:lnTo>
                    <a:lnTo>
                      <a:pt x="8022" y="20841"/>
                    </a:lnTo>
                    <a:lnTo>
                      <a:pt x="8281" y="21000"/>
                    </a:lnTo>
                    <a:lnTo>
                      <a:pt x="8515" y="21176"/>
                    </a:lnTo>
                    <a:lnTo>
                      <a:pt x="8775" y="21317"/>
                    </a:lnTo>
                    <a:lnTo>
                      <a:pt x="9060" y="21441"/>
                    </a:lnTo>
                    <a:lnTo>
                      <a:pt x="9424" y="21547"/>
                    </a:lnTo>
                    <a:lnTo>
                      <a:pt x="9761" y="21617"/>
                    </a:lnTo>
                    <a:lnTo>
                      <a:pt x="10125" y="21688"/>
                    </a:lnTo>
                    <a:lnTo>
                      <a:pt x="10462" y="21723"/>
                    </a:lnTo>
                    <a:lnTo>
                      <a:pt x="10825" y="21723"/>
                    </a:lnTo>
                    <a:close/>
                  </a:path>
                  <a:path w="21600" h="21600">
                    <a:moveTo>
                      <a:pt x="9242" y="14417"/>
                    </a:moveTo>
                    <a:lnTo>
                      <a:pt x="8541" y="12035"/>
                    </a:lnTo>
                    <a:lnTo>
                      <a:pt x="7295" y="10129"/>
                    </a:lnTo>
                    <a:lnTo>
                      <a:pt x="6905" y="9652"/>
                    </a:lnTo>
                    <a:lnTo>
                      <a:pt x="8541" y="10182"/>
                    </a:lnTo>
                    <a:lnTo>
                      <a:pt x="9787" y="9547"/>
                    </a:lnTo>
                    <a:lnTo>
                      <a:pt x="11189" y="10129"/>
                    </a:lnTo>
                    <a:lnTo>
                      <a:pt x="12279" y="9547"/>
                    </a:lnTo>
                    <a:lnTo>
                      <a:pt x="13370" y="10076"/>
                    </a:lnTo>
                    <a:lnTo>
                      <a:pt x="14850" y="9652"/>
                    </a:lnTo>
                    <a:lnTo>
                      <a:pt x="12902" y="12247"/>
                    </a:lnTo>
                    <a:lnTo>
                      <a:pt x="12357" y="14417"/>
                    </a:lnTo>
                    <a:moveTo>
                      <a:pt x="7191" y="15952"/>
                    </a:moveTo>
                    <a:lnTo>
                      <a:pt x="14512" y="15952"/>
                    </a:lnTo>
                    <a:lnTo>
                      <a:pt x="14512" y="17064"/>
                    </a:lnTo>
                    <a:lnTo>
                      <a:pt x="7191" y="17047"/>
                    </a:lnTo>
                    <a:lnTo>
                      <a:pt x="7191" y="18123"/>
                    </a:lnTo>
                    <a:lnTo>
                      <a:pt x="14512" y="18158"/>
                    </a:lnTo>
                    <a:lnTo>
                      <a:pt x="14538" y="19182"/>
                    </a:lnTo>
                    <a:lnTo>
                      <a:pt x="7217" y="19182"/>
                    </a:lnTo>
                  </a:path>
                </a:pathLst>
              </a:custGeom>
              <a:solidFill>
                <a:srgbClr val="ffffcc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WordArt 23"/>
              <p:cNvSpPr txBox="1"/>
              <p:nvPr/>
            </p:nvSpPr>
            <p:spPr>
              <a:xfrm>
                <a:off x="2847960" y="4753080"/>
                <a:ext cx="2205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方法十措施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252" name="AutoShape 24"/>
            <p:cNvSpPr/>
            <p:nvPr/>
          </p:nvSpPr>
          <p:spPr>
            <a:xfrm>
              <a:off x="5349960" y="4460760"/>
              <a:ext cx="627120" cy="176400"/>
            </a:xfrm>
            <a:prstGeom prst="rightArrow">
              <a:avLst>
                <a:gd name="adj1" fmla="val 50000"/>
                <a:gd name="adj2" fmla="val 8887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AutoShape 25"/>
            <p:cNvSpPr/>
            <p:nvPr/>
          </p:nvSpPr>
          <p:spPr>
            <a:xfrm>
              <a:off x="6045120" y="3933720"/>
              <a:ext cx="2502000" cy="13478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减缓风险发生的可能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8"/>
          <p:cNvGrpSpPr/>
          <p:nvPr/>
        </p:nvGrpSpPr>
        <p:grpSpPr>
          <a:xfrm>
            <a:off x="611280" y="262080"/>
            <a:ext cx="666720" cy="663480"/>
            <a:chOff x="611280" y="262080"/>
            <a:chExt cx="666720" cy="663480"/>
          </a:xfrm>
        </p:grpSpPr>
        <p:sp>
          <p:nvSpPr>
            <p:cNvPr id="255" name="矩形 8"/>
            <p:cNvSpPr/>
            <p:nvPr/>
          </p:nvSpPr>
          <p:spPr>
            <a:xfrm>
              <a:off x="611280" y="262080"/>
              <a:ext cx="539640" cy="53712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6"/>
            <p:cNvSpPr/>
            <p:nvPr/>
          </p:nvSpPr>
          <p:spPr>
            <a:xfrm>
              <a:off x="880920" y="530640"/>
              <a:ext cx="397080" cy="394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文本框 17"/>
          <p:cNvSpPr/>
          <p:nvPr/>
        </p:nvSpPr>
        <p:spPr>
          <a:xfrm>
            <a:off x="1019160" y="53352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内部控制是…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制度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WordArt 98"/>
          <p:cNvSpPr txBox="1"/>
          <p:nvPr/>
        </p:nvSpPr>
        <p:spPr>
          <a:xfrm>
            <a:off x="684360" y="2421000"/>
            <a:ext cx="1112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内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59" name="组合 79"/>
          <p:cNvGrpSpPr/>
          <p:nvPr/>
        </p:nvGrpSpPr>
        <p:grpSpPr>
          <a:xfrm>
            <a:off x="2124000" y="2205000"/>
            <a:ext cx="647280" cy="790560"/>
            <a:chOff x="2124000" y="2205000"/>
            <a:chExt cx="647280" cy="790560"/>
          </a:xfrm>
        </p:grpSpPr>
        <p:grpSp>
          <p:nvGrpSpPr>
            <p:cNvPr id="260" name="组合 80"/>
            <p:cNvGrpSpPr/>
            <p:nvPr/>
          </p:nvGrpSpPr>
          <p:grpSpPr>
            <a:xfrm>
              <a:off x="2124000" y="2492280"/>
              <a:ext cx="647280" cy="216000"/>
              <a:chOff x="2124000" y="2492280"/>
              <a:chExt cx="647280" cy="216000"/>
            </a:xfrm>
          </p:grpSpPr>
          <p:sp>
            <p:nvSpPr>
              <p:cNvPr id="261" name="Line 115"/>
              <p:cNvSpPr/>
              <p:nvPr/>
            </p:nvSpPr>
            <p:spPr>
              <a:xfrm>
                <a:off x="2124000" y="2492280"/>
                <a:ext cx="647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Line 116"/>
              <p:cNvSpPr/>
              <p:nvPr/>
            </p:nvSpPr>
            <p:spPr>
              <a:xfrm>
                <a:off x="2124000" y="2708280"/>
                <a:ext cx="647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Line 117"/>
            <p:cNvSpPr/>
            <p:nvPr/>
          </p:nvSpPr>
          <p:spPr>
            <a:xfrm flipH="1">
              <a:off x="2268000" y="2205000"/>
              <a:ext cx="358920" cy="7905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84"/>
          <p:cNvGrpSpPr/>
          <p:nvPr/>
        </p:nvGrpSpPr>
        <p:grpSpPr>
          <a:xfrm>
            <a:off x="3132000" y="2060640"/>
            <a:ext cx="2154240" cy="1071360"/>
            <a:chOff x="3132000" y="2060640"/>
            <a:chExt cx="2154240" cy="1071360"/>
          </a:xfrm>
        </p:grpSpPr>
        <p:sp>
          <p:nvSpPr>
            <p:cNvPr id="265" name="Oval 103"/>
            <p:cNvSpPr/>
            <p:nvPr/>
          </p:nvSpPr>
          <p:spPr>
            <a:xfrm>
              <a:off x="3132000" y="2060640"/>
              <a:ext cx="2154240" cy="107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WordArt 104"/>
            <p:cNvSpPr txBox="1"/>
            <p:nvPr/>
          </p:nvSpPr>
          <p:spPr>
            <a:xfrm>
              <a:off x="3781440" y="2349360"/>
              <a:ext cx="9144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78000"/>
                      </a:srgbClr>
                    </a:outerShdw>
                  </a:effectLst>
                  <a:latin typeface="宋体"/>
                </a:rPr>
                <a:t>制度</a:t>
              </a:r>
              <a:endPara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67" name="WordArt 105"/>
          <p:cNvSpPr txBox="1"/>
          <p:nvPr/>
        </p:nvSpPr>
        <p:spPr>
          <a:xfrm>
            <a:off x="684360" y="4005360"/>
            <a:ext cx="1112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内控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8" name="组合 88"/>
          <p:cNvGrpSpPr/>
          <p:nvPr/>
        </p:nvGrpSpPr>
        <p:grpSpPr>
          <a:xfrm>
            <a:off x="2195640" y="4149720"/>
            <a:ext cx="504360" cy="195120"/>
            <a:chOff x="2195640" y="4149720"/>
            <a:chExt cx="504360" cy="195120"/>
          </a:xfrm>
        </p:grpSpPr>
        <p:sp>
          <p:nvSpPr>
            <p:cNvPr id="269" name="Line 100"/>
            <p:cNvSpPr/>
            <p:nvPr/>
          </p:nvSpPr>
          <p:spPr>
            <a:xfrm>
              <a:off x="2195640" y="4149720"/>
              <a:ext cx="504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Line 101"/>
            <p:cNvSpPr/>
            <p:nvPr/>
          </p:nvSpPr>
          <p:spPr>
            <a:xfrm>
              <a:off x="2195640" y="4344840"/>
              <a:ext cx="504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Oval 106"/>
          <p:cNvSpPr/>
          <p:nvPr/>
        </p:nvSpPr>
        <p:spPr>
          <a:xfrm>
            <a:off x="2843280" y="3429000"/>
            <a:ext cx="3024000" cy="1871640"/>
          </a:xfrm>
          <a:prstGeom prst="ellipse">
            <a:avLst/>
          </a:prstGeom>
          <a:solidFill>
            <a:srgbClr val="ffff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09"/>
          <p:cNvSpPr/>
          <p:nvPr/>
        </p:nvSpPr>
        <p:spPr>
          <a:xfrm>
            <a:off x="3490200" y="3598920"/>
            <a:ext cx="16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754ae"/>
                </a:solidFill>
                <a:latin typeface="Arial"/>
              </a:rPr>
              <a:t>组织结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93"/>
          <p:cNvGrpSpPr/>
          <p:nvPr/>
        </p:nvGrpSpPr>
        <p:grpSpPr>
          <a:xfrm>
            <a:off x="3490200" y="3500280"/>
            <a:ext cx="1659240" cy="601920"/>
            <a:chOff x="3490200" y="3500280"/>
            <a:chExt cx="1659240" cy="601920"/>
          </a:xfrm>
        </p:grpSpPr>
        <p:sp>
          <p:nvSpPr>
            <p:cNvPr id="274" name="Oval 108"/>
            <p:cNvSpPr/>
            <p:nvPr/>
          </p:nvSpPr>
          <p:spPr>
            <a:xfrm>
              <a:off x="3594240" y="3500280"/>
              <a:ext cx="1444680" cy="601920"/>
            </a:xfrm>
            <a:prstGeom prst="ellipse">
              <a:avLst/>
            </a:prstGeom>
            <a:solidFill>
              <a:srgbClr val="ffccff">
                <a:alpha val="4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109"/>
            <p:cNvSpPr/>
            <p:nvPr/>
          </p:nvSpPr>
          <p:spPr>
            <a:xfrm>
              <a:off x="3490200" y="3598560"/>
              <a:ext cx="1659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6754ae"/>
                  </a:solidFill>
                  <a:latin typeface="Arial"/>
                </a:rPr>
                <a:t>组织结构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Rectangle 112"/>
          <p:cNvSpPr/>
          <p:nvPr/>
        </p:nvSpPr>
        <p:spPr>
          <a:xfrm>
            <a:off x="4516920" y="4248000"/>
            <a:ext cx="126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754ae"/>
                </a:solidFill>
                <a:latin typeface="Arial"/>
              </a:rPr>
              <a:t>程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98"/>
          <p:cNvGrpSpPr/>
          <p:nvPr/>
        </p:nvGrpSpPr>
        <p:grpSpPr>
          <a:xfrm>
            <a:off x="4516200" y="4149720"/>
            <a:ext cx="1263240" cy="601560"/>
            <a:chOff x="4516200" y="4149720"/>
            <a:chExt cx="1263240" cy="601560"/>
          </a:xfrm>
        </p:grpSpPr>
        <p:sp>
          <p:nvSpPr>
            <p:cNvPr id="278" name="Oval 111"/>
            <p:cNvSpPr/>
            <p:nvPr/>
          </p:nvSpPr>
          <p:spPr>
            <a:xfrm>
              <a:off x="4572000" y="4149720"/>
              <a:ext cx="1168200" cy="601560"/>
            </a:xfrm>
            <a:prstGeom prst="ellipse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112"/>
            <p:cNvSpPr/>
            <p:nvPr/>
          </p:nvSpPr>
          <p:spPr>
            <a:xfrm>
              <a:off x="4516200" y="4248000"/>
              <a:ext cx="126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6754ae"/>
                  </a:solidFill>
                  <a:latin typeface="Arial"/>
                </a:rPr>
                <a:t>程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Oval 111"/>
          <p:cNvSpPr/>
          <p:nvPr/>
        </p:nvSpPr>
        <p:spPr>
          <a:xfrm>
            <a:off x="3119400" y="4265640"/>
            <a:ext cx="1168560" cy="601560"/>
          </a:xfrm>
          <a:prstGeom prst="ellipse">
            <a:avLst/>
          </a:prstGeom>
          <a:solidFill>
            <a:srgbClr val="fff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12"/>
          <p:cNvSpPr/>
          <p:nvPr/>
        </p:nvSpPr>
        <p:spPr>
          <a:xfrm>
            <a:off x="3052440" y="4317840"/>
            <a:ext cx="126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754ae"/>
                </a:solidFill>
                <a:latin typeface="Arial"/>
              </a:rPr>
              <a:t>制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12"/>
          <p:cNvSpPr/>
          <p:nvPr/>
        </p:nvSpPr>
        <p:spPr>
          <a:xfrm>
            <a:off x="3930840" y="4800600"/>
            <a:ext cx="106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754ae"/>
                </a:solidFill>
                <a:latin typeface="Arial"/>
              </a:rPr>
              <a:t>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utoShape 118"/>
          <p:cNvSpPr/>
          <p:nvPr/>
        </p:nvSpPr>
        <p:spPr>
          <a:xfrm>
            <a:off x="6012000" y="407664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119"/>
          <p:cNvSpPr/>
          <p:nvPr/>
        </p:nvSpPr>
        <p:spPr>
          <a:xfrm>
            <a:off x="6588000" y="3357720"/>
            <a:ext cx="2305080" cy="2016000"/>
          </a:xfrm>
          <a:prstGeom prst="foldedCorner">
            <a:avLst>
              <a:gd name="adj" fmla="val 12500"/>
            </a:avLst>
          </a:prstGeom>
          <a:solidFill>
            <a:srgbClr val="ff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确保管理层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目的达到</a:t>
            </a:r>
            <a:r>
              <a:rPr b="0" lang="zh-CN" sz="2600" spc="-1" strike="noStrike">
                <a:solidFill>
                  <a:srgbClr val="6754ae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0:49:00Z</dcterms:created>
  <dc:creator>DY</dc:creator>
  <dc:description/>
  <dc:language>en-US</dc:language>
  <cp:lastModifiedBy>苏武俊</cp:lastModifiedBy>
  <dcterms:modified xsi:type="dcterms:W3CDTF">2016-05-09T08:44:30Z</dcterms:modified>
  <cp:revision>2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fileid">
    <vt:lpwstr>553426</vt:lpwstr>
  </property>
  <property fmtid="{D5CDD505-2E9C-101B-9397-08002B2CF9AE}" pid="4" name="name">
    <vt:lpwstr>pfQt6solrO42946.ppt</vt:lpwstr>
  </property>
</Properties>
</file>