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D6C-96EC-40BE-A431-196E4A2E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43920"/>
            <a:ext cx="6365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7921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0920" y="3916800"/>
            <a:ext cx="7921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840-054E-4AE8-B9AC-E9A42938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0920" y="43920"/>
            <a:ext cx="6365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38653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09920" y="907560"/>
            <a:ext cx="38653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50920" y="3916800"/>
            <a:ext cx="38653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309920" y="3916800"/>
            <a:ext cx="38653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BBC-04F2-4831-8C3B-B869A734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0920" y="43920"/>
            <a:ext cx="6365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2550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29320" y="907560"/>
            <a:ext cx="2550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08080" y="907560"/>
            <a:ext cx="2550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50920" y="3916800"/>
            <a:ext cx="2550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29320" y="3916800"/>
            <a:ext cx="2550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08080" y="3916800"/>
            <a:ext cx="2550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B64C-D36D-4870-A16F-4AF48766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0920" y="43920"/>
            <a:ext cx="6365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50920" y="907560"/>
            <a:ext cx="792144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D19-C209-43FE-9984-D061246B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43920"/>
            <a:ext cx="6365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7921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D9FF-2B3F-48C5-83A5-B7B4E4A9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43920"/>
            <a:ext cx="6365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38653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09920" y="907560"/>
            <a:ext cx="38653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A14-2417-4659-AB27-AC93006D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0920" y="43920"/>
            <a:ext cx="6365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BFFF-67D3-4F03-BB85-31F5ED6A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10920" y="43920"/>
            <a:ext cx="63658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2EB0-964F-4262-960E-719EFA6C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0920" y="43920"/>
            <a:ext cx="6365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38653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09920" y="907560"/>
            <a:ext cx="38653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0920" y="3916800"/>
            <a:ext cx="38653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CF5-E6F0-42E6-B199-89CBE219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0920" y="43920"/>
            <a:ext cx="6365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38653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09920" y="907560"/>
            <a:ext cx="38653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09920" y="3916800"/>
            <a:ext cx="38653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55E4-C343-4ACC-94EA-CC1C8239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0920" y="43920"/>
            <a:ext cx="6365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38653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09920" y="907560"/>
            <a:ext cx="38653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0920" y="3916800"/>
            <a:ext cx="7921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C2D2-F5FC-4927-B0A6-E6A00B0E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"/>
          <p:cNvPicPr/>
          <p:nvPr/>
        </p:nvPicPr>
        <p:blipFill>
          <a:blip r:embed="rId2"/>
          <a:srcRect l="0" t="0" r="400" b="674"/>
          <a:stretch/>
        </p:blipFill>
        <p:spPr>
          <a:xfrm>
            <a:off x="109440" y="9360"/>
            <a:ext cx="9034560" cy="6848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035B-6814-456B-9EC7-F7B85B88F157}" type="slidenum">
              <a:rPr b="0" lang="zh-CN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250920" y="907560"/>
            <a:ext cx="7921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组合 6"/>
          <p:cNvGrpSpPr/>
          <p:nvPr/>
        </p:nvGrpSpPr>
        <p:grpSpPr>
          <a:xfrm>
            <a:off x="-12600" y="0"/>
            <a:ext cx="642960" cy="476280"/>
            <a:chOff x="-12600" y="0"/>
            <a:chExt cx="642960" cy="476280"/>
          </a:xfrm>
        </p:grpSpPr>
        <p:sp>
          <p:nvSpPr>
            <p:cNvPr id="6" name="矩形 8"/>
            <p:cNvSpPr/>
            <p:nvPr/>
          </p:nvSpPr>
          <p:spPr>
            <a:xfrm>
              <a:off x="-12600" y="0"/>
              <a:ext cx="250920" cy="381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" name="矩形 9"/>
            <p:cNvSpPr/>
            <p:nvPr/>
          </p:nvSpPr>
          <p:spPr>
            <a:xfrm>
              <a:off x="290520" y="190440"/>
              <a:ext cx="339840" cy="2858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610920" y="43920"/>
            <a:ext cx="6365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微软雅黑"/>
              </a:rPr>
              <a:t>漫谈财务风险管控</a:t>
            </a:r>
            <a:br>
              <a:rPr sz="4400"/>
            </a:b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微软雅黑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</a:rPr>
              <a:t>——以教育系统为例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0920" y="10800"/>
            <a:ext cx="636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7921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财务风险的涵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教育系统财务风险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教育系统财务风险的成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教育系统财务风险的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9720" y="304560"/>
            <a:ext cx="6356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一、财务风险的涵义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广义的财务风险是指经济实体各类风险的货币化表现。狭义的财务风险特指经济实体在开展各项经济活动中因资金筹措、投资、和日常运营所面临的风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校是非盈利组织。学校的财务风险是指各校在事业发展过程中，因资金运动所导致的某种不利事件或损失发生的可能性及其后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7320" y="457200"/>
            <a:ext cx="629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二、教育系统财务风险的类型</a:t>
            </a:r>
            <a:br>
              <a:rPr sz="3200"/>
            </a:b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合企业财务风险的类型和学校资金流转的特点，教育系统财务风险分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一）筹资风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二）投资风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三）财务管理风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3920"/>
            <a:ext cx="63676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三、教育系统财务风险的成因</a:t>
            </a:r>
            <a:br>
              <a:rPr sz="2000"/>
            </a:b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07560"/>
            <a:ext cx="8001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外部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国家财政拨款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政府对学校财务的软约束及监督难到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银行盲目贷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内部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领导缺乏责任意识和风险防范意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财务管理制度实施不到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内部控制机制不完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6365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四、教育系统财务风险的控制</a:t>
            </a:r>
            <a:br>
              <a:rPr sz="2000"/>
            </a:b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7921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政府主管部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合理增加投入、完善多渠道筹资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强化对学校预算约束，控制贷款规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完善绩效评价体系，提高经费使用效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学校自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落实经济责任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完善财务管理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健全学校内部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合理化解内部债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化学校贷款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财务人员培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7921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谢谢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2T06:59:21Z</dcterms:created>
  <dc:creator>j</dc:creator>
  <dc:description/>
  <dc:language>en-US</dc:language>
  <cp:lastModifiedBy>Lenovo User</cp:lastModifiedBy>
  <dcterms:modified xsi:type="dcterms:W3CDTF">2015-05-04T07:18:51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